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181-E150-4C47-8F77-3DDAB1A8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C52-3555-4FEE-A6FC-15BF7F84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994-0825-483E-8FDD-3654EA90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916-EB4C-402E-926E-D66CE671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B8490-A98C-48CB-92A6-7ABA72E8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9E30E-FAA1-4773-924F-2749335E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2936B-76DA-4C97-9685-C60E1403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10D09-44C5-4BC7-941A-022970FE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0528C-F5D6-46DE-A6E4-312C25D0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6F4AE-F769-4364-A28B-5F0F70BD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F2DC9-7A68-4F49-B269-3FD6A966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3E7-92EA-4287-AF52-F7F05EB7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2A852-EA4A-4065-8C77-6DEC42E1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030DD-46A3-4F1C-AA6D-FF745CAB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64D8A-0B3E-42B2-8893-2413BE5A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20D48-C8EC-4C7E-8905-466F2336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0BFEE-3646-4F70-AD48-DF1A0775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D172A-F42A-4B91-A72A-54CD7F36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865FE-AC0A-4974-9278-35858E4E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DE454-9CEA-4D4F-BA85-6D6BE566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F3C44-7E8B-41DD-92D0-E3D27CF5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137F6-ED7F-4A0A-A849-110A9AB2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9CC-C964-4C54-AE2A-4D389589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32DE9-46F0-4CDE-8921-5323279F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C027B-C456-401A-99A7-542B9192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FE4BA-B913-485D-BA60-2F2F4D07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98DC7-9DD4-4EAC-A859-A5E1EF29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0B468-8BCD-4769-AAE0-5D83FF0B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0A20-F7B7-46CE-8EB3-8083A744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0C32C-47B8-48EF-A729-12C35753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42C-4195-4854-A49C-2D659945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5B5-449E-466C-892D-CDDBF0A8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767-4CF4-423A-ACCE-9275D546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92E-E4F0-4BEC-BC7E-5B155BA9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823-A30F-4653-942C-5A58B948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ECD-CD21-4A25-9880-18AA1995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9589-D916-4272-9A8C-88E42BB5F7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C82F-1A2B-42A5-941B-0BFA18B2EB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36BC-284C-4359-BFAB-EB4A0494D7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. Идентификации модели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ение математических моделей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ам наблюдения входных и выход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нных объекта получило наз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идентификация»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му эксперименту соответству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ка матрицы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оответствующ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    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рицы (2.2)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вырожде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ы и переменные не связа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 с д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268360" y="2205000"/>
                <a:ext cx="432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2. Выбор формы модели идент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модели идентификации начинается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а формы модели, т.е зависимости (2.1). При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актике может встретиться два случ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2.1. Форма математической модели известна зара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случае задача идентификации сводится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ю коэффициентов этой модели. Та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описание ряда затухающих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ющихся процессов дается зависимост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оненциальн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задачей исследований явл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коэффициентов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2843280" y="1125360"/>
                <a:ext cx="2879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2.2. Форма математической модели заранее неизвест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случае для построения мод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нтификации используется общее разло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и в ряд Тейлора. Уравнение регрессии в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чае можно записать в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1476360" y="3645000"/>
                <a:ext cx="496728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/>
                              <m:sup>
                                <m:r>
                                  <m:t xml:space="preserve">k</m:t>
                                </m:r>
                              </m:sup>
                              <m:e/>
                            </m:nary>
                          </m:e>
                          <m:lim>
                            <m:r>
                              <m:t xml:space="preserve">k</m:t>
                            </m:r>
                          </m:lim>
                        </m:limLow>
                      </m:e>
                    </m:eqAr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              (2.3) принимает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граничиться первыми членами разложения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внения (2.3) и (2.4) сведутся к рассмотр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ым, квадратичным и другим полиномиа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метод нахождения коэффици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внения регрессии на примере линейной мод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403280" y="1125360"/>
                <a:ext cx="720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1547640" y="1844640"/>
                <a:ext cx="6280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2.3. Линейная одномерная регрессионная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в результате эксперимента получ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а некоторой зависи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ца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604836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наблюдений отобразим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ке. Всего на графике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альных точек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ветствуют 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наблюде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1692360" y="3141720"/>
            <a:ext cx="58323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) Исследователь вносит гипотезу о структуре ящ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ожим, что полученные да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табл.2.1)  подчиняются линейной гипотезе, 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выход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зависит от входа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линейно, 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гипотеза имеет вид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3564000" y="5084640"/>
                <a:ext cx="21938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ая модель называется 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иней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дномерной регрессионной модел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е модель, имеющая один вход и од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ис. 2.1. Одномерная модель черного ящ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[ Рис. 2.3. Одномерная модель черного ящика ]"/>
          <p:cNvPicPr/>
          <p:nvPr/>
        </p:nvPicPr>
        <p:blipFill>
          <a:blip r:embed="rId1"/>
          <a:stretch/>
        </p:blipFill>
        <p:spPr>
          <a:xfrm>
            <a:off x="2340000" y="2997360"/>
            <a:ext cx="446400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б) Определение неизвестных коэффициентов         и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каждой из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ня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ек вычислим ошибку (     ) м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ым значением (          )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етическим значением (         ), лежащим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отетической прямо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м.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ис.2.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4788000" y="2252520"/>
                <a:ext cx="5284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6"/>
              <p:cNvSpPr txBox="1"/>
              <p:nvPr/>
            </p:nvSpPr>
            <p:spPr>
              <a:xfrm>
                <a:off x="6227640" y="2852640"/>
                <a:ext cx="719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1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5148360" y="3357720"/>
                <a:ext cx="86508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3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10"/>
              <p:cNvSpPr txBox="1"/>
              <p:nvPr/>
            </p:nvSpPr>
            <p:spPr>
              <a:xfrm>
                <a:off x="3419640" y="4630680"/>
                <a:ext cx="2232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5"/>
              <p:cNvSpPr txBox="1"/>
              <p:nvPr/>
            </p:nvSpPr>
            <p:spPr>
              <a:xfrm>
                <a:off x="4716360" y="620640"/>
                <a:ext cx="560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17"/>
              <p:cNvSpPr txBox="1"/>
              <p:nvPr/>
            </p:nvSpPr>
            <p:spPr>
              <a:xfrm>
                <a:off x="5867280" y="622440"/>
                <a:ext cx="594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бщая схема идентификации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706320" y="1773360"/>
            <a:ext cx="76964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1429560" y="4581000"/>
            <a:ext cx="64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с. 2.2. Графический вид представления результа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блюдения над черным ящ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98508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28036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835280" y="1557360"/>
                <a:ext cx="5761080" cy="32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эксп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теор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эксп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бы положительные ошибки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омпенсировали в сумме отрицатель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ую из ошибок возводят в квадрат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ладывают их значения в суммарную ошибк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же одного зна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258920" y="3573360"/>
                <a:ext cx="669600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эксп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эксп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42472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Цель мето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минимизация суммар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 счет подбора коэффици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ими словами, это означает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найти такие коэффици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ейной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ее график проходил как можно бл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временно ко всем эксперимента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а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7740720" y="981000"/>
                <a:ext cx="1023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7385040" y="1963800"/>
                <a:ext cx="1008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8"/>
              <p:cNvSpPr txBox="1"/>
              <p:nvPr/>
            </p:nvSpPr>
            <p:spPr>
              <a:xfrm>
                <a:off x="3070080" y="3141720"/>
                <a:ext cx="2644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84978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й метод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азывается мето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аименьших  квадратов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марная ошиб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функцией дв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нных         и         , то есть , меня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, можно влиять на величину суммар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и (см.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ис. 2.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395280" y="2205000"/>
                <a:ext cx="76834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эксп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</m:nary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6"/>
              <p:cNvSpPr txBox="1"/>
              <p:nvPr/>
            </p:nvSpPr>
            <p:spPr>
              <a:xfrm>
                <a:off x="2771640" y="3933720"/>
                <a:ext cx="511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9" name="Rectangle 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8"/>
              <p:cNvSpPr txBox="1"/>
              <p:nvPr/>
            </p:nvSpPr>
            <p:spPr>
              <a:xfrm>
                <a:off x="3798720" y="3962520"/>
                <a:ext cx="5367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553080" cy="4365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2273760" y="537300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 2.3. Примерный вид функции ошиб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суммарную ошибку минимизиров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ем частные производные от функции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й переменной и приравняем их к нул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словие экстремума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.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835280" y="3443400"/>
                <a:ext cx="525780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эксп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я (2.6) можно переписать в виде т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мых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нормальных уравн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в эту систему относи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нных        и         , получим конкр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искомой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1835280" y="1628640"/>
                <a:ext cx="4392360" cy="214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эксп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6"/>
              <p:cNvSpPr txBox="1"/>
              <p:nvPr/>
            </p:nvSpPr>
            <p:spPr>
              <a:xfrm>
                <a:off x="2771640" y="4438800"/>
                <a:ext cx="4572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8"/>
              <p:cNvSpPr txBox="1"/>
              <p:nvPr/>
            </p:nvSpPr>
            <p:spPr>
              <a:xfrm>
                <a:off x="3780000" y="4508640"/>
                <a:ext cx="4759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10"/>
              <p:cNvSpPr txBox="1"/>
              <p:nvPr/>
            </p:nvSpPr>
            <p:spPr>
              <a:xfrm>
                <a:off x="3078000" y="5589720"/>
                <a:ext cx="2268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5690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) Проверк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ественно ожидать, что зна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енной функции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очках                                 будут отличаться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бличных значений. Чтобы определи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имается гипотеза или нет, нуж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о-перв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рассчитать ошибку между точ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ной экспериментальной и получе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етической зависимости и суммарную ошиб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2987640" y="2184480"/>
                <a:ext cx="2232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6"/>
              <p:cNvSpPr txBox="1"/>
              <p:nvPr/>
            </p:nvSpPr>
            <p:spPr>
              <a:xfrm>
                <a:off x="2411280" y="2949480"/>
                <a:ext cx="2160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13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о-втор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еобходимо найти значение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еквадратического  отклонен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 суммарная ошибка;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 общее число экспериментальных т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1476360" y="836640"/>
                <a:ext cx="56880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2627280" y="1628640"/>
                <a:ext cx="2916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8"/>
              <p:cNvSpPr txBox="1"/>
              <p:nvPr/>
            </p:nvSpPr>
            <p:spPr>
              <a:xfrm>
                <a:off x="3403440" y="3645000"/>
                <a:ext cx="16066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строении модели идентиф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о предполагается,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 физическая те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боты объекта отсутству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по тем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ым причинам не может быть использов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 идентификации представляет соб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называемый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черный ящик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некотор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м регулируемых (или, по крайней ме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ряемых)  входов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одним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колькими наблюдаемыми (измеряемым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ами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42472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 полосу, огранич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иями 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рис. 2.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падает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68.26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ых точек           , то выдвину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и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гипотеза приним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В противном случа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ирают более сложную гипотезу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ют исходные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4"/>
              <p:cNvSpPr txBox="1"/>
              <p:nvPr/>
            </p:nvSpPr>
            <p:spPr>
              <a:xfrm>
                <a:off x="1692360" y="2060640"/>
                <a:ext cx="21589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6"/>
              <p:cNvSpPr txBox="1"/>
              <p:nvPr/>
            </p:nvSpPr>
            <p:spPr>
              <a:xfrm>
                <a:off x="5076720" y="2060640"/>
                <a:ext cx="21592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8"/>
              <p:cNvSpPr txBox="1"/>
              <p:nvPr/>
            </p:nvSpPr>
            <p:spPr>
              <a:xfrm>
                <a:off x="5076720" y="3841920"/>
                <a:ext cx="7923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требуется большая уверенность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е, то используют дополните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ие: в полосу, ограниченную ли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ы попасть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95.44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ых точек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1835280" y="2924280"/>
                <a:ext cx="20160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6"/>
              <p:cNvSpPr txBox="1"/>
              <p:nvPr/>
            </p:nvSpPr>
            <p:spPr>
              <a:xfrm>
                <a:off x="4857840" y="2924280"/>
                <a:ext cx="20937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Rectangle 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8"/>
              <p:cNvSpPr txBox="1"/>
              <p:nvPr/>
            </p:nvSpPr>
            <p:spPr>
              <a:xfrm>
                <a:off x="5081760" y="4518000"/>
                <a:ext cx="9572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34815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1338840" y="4868280"/>
            <a:ext cx="676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 2.4. Исследование допустимости принятия гипот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ояние 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связано с 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следующ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нош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 =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 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 =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ллюстрировано на 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ис. 2.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3995640" y="2828880"/>
                <a:ext cx="534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Rectangle 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9"/>
              <p:cNvSpPr txBox="1"/>
              <p:nvPr/>
            </p:nvSpPr>
            <p:spPr>
              <a:xfrm>
                <a:off x="6732720" y="2852640"/>
                <a:ext cx="534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1836720" y="404640"/>
            <a:ext cx="5256360" cy="49309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2838960" y="55890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 2.5. Связь значений σ и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ие принятия гипотезы выведено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льного закона распределения случай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ок (см. 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ис. 2.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вероя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еделения нормальной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[ Рис. 2.7. Иллюстрация закона нормального распределения ошибок ]"/>
          <p:cNvPicPr/>
          <p:nvPr/>
        </p:nvPicPr>
        <p:blipFill>
          <a:blip r:embed="rId1"/>
          <a:stretch/>
        </p:blipFill>
        <p:spPr>
          <a:xfrm>
            <a:off x="1835280" y="765000"/>
            <a:ext cx="5688000" cy="41580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2485080" y="5084280"/>
            <a:ext cx="44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с. 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Иллюстрация зако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мального распределения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684360" y="2050920"/>
            <a:ext cx="77040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дачей идентификации явл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строение модели объекта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езультатам наблюдений его реакции 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еакции на возмущения внешней сред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того, доступны вх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ю для управления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для наблюдения, можно говор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ктивный или пассив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ящ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.1. Постановка задачи идентиф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и задача идент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ируется следующим образ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ются </a:t>
            </a:r>
            <a:r>
              <a:rPr b="0" i="1" lang="ru-RU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о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каждого из которых определен ве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ных параметро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известна (измерена) выходная фун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ы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5796000" y="2847960"/>
                <a:ext cx="25192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6"/>
              <p:cNvSpPr txBox="1"/>
              <p:nvPr/>
            </p:nvSpPr>
            <p:spPr>
              <a:xfrm>
                <a:off x="4788000" y="3927600"/>
                <a:ext cx="36003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2340000" y="5157720"/>
                <a:ext cx="455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712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бщем случае следует говорить о векто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ных функций                                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ко при идентификации модели для кажд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этих функций строятся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независимы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а, что позволяет ограничиться рассмотр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ого вых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уется построить зависимость (моде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ая описывает характеристики изучаем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3956040" y="981000"/>
                <a:ext cx="28893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6"/>
              <p:cNvSpPr txBox="1"/>
              <p:nvPr/>
            </p:nvSpPr>
            <p:spPr>
              <a:xfrm>
                <a:off x="2824200" y="4365720"/>
                <a:ext cx="33829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е (2.1) называется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равне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егре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описывает поверх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гиперповерхность) отклика, характеризующ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ь идентификации. Предполагается такж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менующиеся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экспериментальные да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дают достаточно информации для восс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атематического описания объекта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улированная задача в матрич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е может быть записана с помощ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ой матрицы входов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матриц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лбца результ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4211640" y="1989000"/>
                <a:ext cx="345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9" name="Rectangle 7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6"/>
              <p:cNvSpPr txBox="1"/>
              <p:nvPr/>
            </p:nvSpPr>
            <p:spPr>
              <a:xfrm>
                <a:off x="1430280" y="3068640"/>
                <a:ext cx="644220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8:35:17Z</dcterms:created>
  <dc:creator>Каныгин</dc:creator>
  <dc:description/>
  <dc:language>en-US</dc:language>
  <cp:lastModifiedBy>Каныгин</cp:lastModifiedBy>
  <dcterms:modified xsi:type="dcterms:W3CDTF">2021-01-14T09:24:36Z</dcterms:modified>
  <cp:revision>45</cp:revision>
  <dc:subject/>
  <dc:title>Слайд 1</dc:title>
</cp:coreProperties>
</file>