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836-7927-4B91-98CE-357FF875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D4D-1EDB-49C1-9129-0BFD05F6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241-94D3-47AD-80BD-8C3B8E84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9E9-8EA7-41BF-80F4-1CB005E5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DF9-D80D-45AE-B133-94AC01C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F3D-E54B-42C4-985F-0E591208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3C7-B1C3-4989-A2F9-31648BDC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1A5-964F-410E-8D2E-791B9FE7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AF7-A740-4FC8-94F6-05950667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912-AFC2-4911-8F56-75460708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FBB-C9BB-487C-A17D-F03FD6D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438-CD58-464A-80E3-94D7B6C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BAA8-D77C-4997-A208-C9731F3F2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.2.4. Проверка адекватности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моделировании исследов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интересует, насколько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одель  представляет моделируемую систе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бъект моделиров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подходов в оценке адекват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сравнении выходов модел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аль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динаковых значе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неадекватна (должна быть отвергнута, как недостаточно точна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оответственно пр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2770200" y="1413000"/>
                <a:ext cx="30970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аб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2987640" y="4527720"/>
                <a:ext cx="2951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аб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итерия Фиш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м образом. Столбцы связаны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ным числом степеней свободы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ителя        а строки – для знамена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есечении соответствующих стро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бца стоят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итические зна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ите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ак правило, в технических задач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уровень значимост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0,0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400480" y="2852640"/>
                <a:ext cx="568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7812000" y="2852640"/>
                <a:ext cx="61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568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оверка значимости коэффи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мость коэффициентов линей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рессии определяется с помощью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я Стьюдента. При этом вычисля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ные значения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рит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я параме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для пар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619280" y="3141720"/>
                <a:ext cx="25192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ст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7308720" y="3429000"/>
                <a:ext cx="671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1692360" y="4724280"/>
                <a:ext cx="26636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ст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7380360" y="4941720"/>
                <a:ext cx="590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8"/>
          <p:cNvSpPr/>
          <p:nvPr/>
        </p:nvSpPr>
        <p:spPr>
          <a:xfrm>
            <a:off x="0" y="21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реднее квадратическое отклонение результативного признака от среднего арифметического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выб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700360" y="765000"/>
                <a:ext cx="2521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" name="Rectangle 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3332160" y="3645000"/>
                <a:ext cx="180036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реднее квадратическое отклонение факторного признака от среднего арифметического 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2700360" y="836640"/>
                <a:ext cx="287964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Rectangle 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924360" y="4365720"/>
                <a:ext cx="1657440" cy="15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49636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енные по вышеприведенным форму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сравнивают с критически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т по таблице Стьюдента с уче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ого уровня значимости 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   и чис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ей свобод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                      гипотеза о знач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а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нимаетс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отив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чае коэффициент считается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значим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авнивается к нулю.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3851280" y="2565360"/>
                <a:ext cx="20811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2013120" y="3470400"/>
                <a:ext cx="1966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расч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абл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5724360" y="2157480"/>
                <a:ext cx="432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3276720" y="3944880"/>
                <a:ext cx="384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2.5. Линейная множествен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им, что функциона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ящика снова имеет линей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, но количество входных сигнал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ющих одновременно на объек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см. 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 2.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84200" y="4508640"/>
                <a:ext cx="76723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905800" cy="2444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2556000" y="40795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с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 2.7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ение многомер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ного ящика на схем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ыми данными при оценке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прямоугольная матрица входов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203640" y="1001880"/>
                <a:ext cx="23763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924360" y="2058840"/>
                <a:ext cx="388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1116000" y="3154320"/>
                <a:ext cx="72896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92120" y="333360"/>
            <a:ext cx="840096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95280" y="5229360"/>
            <a:ext cx="840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возникновения неопределеннос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замера (погрешности оборудования и несоблюдение технологии исследова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применения в моделировании (проблемы интерпретации и проблемы построения модел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толбцы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ответ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ам регистрации всех наблюд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ов объекта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одном эксперимен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тро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ержат результаты наблюд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одним параметром (фактором)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о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вый столб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трицы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ий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ц,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ответствует коэффициенту мод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539640" y="5373720"/>
                <a:ext cx="7765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регрессии (2.8) в матрич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е для данных (2.9) имее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вектор-столб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етров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яя метод наименьших квадр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найти минимум су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3121200" y="1700280"/>
                <a:ext cx="18205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187280" y="2852640"/>
                <a:ext cx="29530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573120" y="5297400"/>
                <a:ext cx="81756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42472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ывая, что при транспонир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дения матриц получается 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, взятых в обратном порядке, т.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раскрытия скобок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3203640" y="2492280"/>
                <a:ext cx="2376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8561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едение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матрица раз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. величина скалярная, следовательно, о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яется при транспонировании, т.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421080" y="1041480"/>
                <a:ext cx="1655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1476360" y="2708280"/>
                <a:ext cx="6296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1749600" y="4869000"/>
                <a:ext cx="5932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p>
                        <m:r>
                          <m:t xml:space="preserve">Т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49636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условие минимизации (2.11) прим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необходимого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тремума функции нескольки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иравнять нулю час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ные по этим перемен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755640" y="1773360"/>
                <a:ext cx="76550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p>
                        <m:r>
                          <m:t xml:space="preserve">Т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+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p>
                        <m:r>
                          <m:t xml:space="preserve">Т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a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2771640" y="4292640"/>
                <a:ext cx="3024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тричной форме – вектор ча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ных имеет в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ектора частных производных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 кур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высшей математики доказаны следую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форму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ектор-столбцы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имметричная  матр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619280" y="1700280"/>
                <a:ext cx="54738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2050920" y="4221000"/>
                <a:ext cx="48564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A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агая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матриц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на является симметричной), найд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841320" y="606600"/>
                <a:ext cx="71755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den>
                    </m:f>
                    <m:r>
                      <m:t xml:space="preserve">(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p>
                        <m:r>
                          <m:t xml:space="preserve">Т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+</m:t>
                    </m:r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p>
                        <m:r>
                          <m:t xml:space="preserve">Т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7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03640" y="2349360"/>
                <a:ext cx="230508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3348000" y="3573360"/>
                <a:ext cx="1871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340000" y="5013360"/>
                <a:ext cx="4792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000" y="980640"/>
            <a:ext cx="8496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получаем систему нормальных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тричной форме для определения в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оем последнее выра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2268360" y="3141720"/>
                <a:ext cx="52214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)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4"/>
              <p:cNvSpPr txBox="1"/>
              <p:nvPr/>
            </p:nvSpPr>
            <p:spPr>
              <a:xfrm>
                <a:off x="539640" y="1976400"/>
                <a:ext cx="530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 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468360" y="549360"/>
                <a:ext cx="7920000" cy="55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m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m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m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m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</m:nary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m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7885080" y="3284640"/>
            <a:ext cx="107964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755640" y="1916280"/>
                <a:ext cx="7850160" cy="29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m</m:t>
                                      </m:r>
                                    </m:sub>
                                  </m:sSub>
                                  <m:r>
                                    <m:t xml:space="preserve">y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42472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е, и другие данные (данные, получ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ходе модели и данные,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е эксперимента с реальной систем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татисти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оэтому для 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ости применяют 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истической теории оценивания и провер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кватность исследуемой модел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 дисперсиям отклонений откл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дели от среднего значения откликов 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астном случае из рассматриваем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чного уравнения (2.13) с учетом (2.14)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.15) для одной переменной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) нетру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ть уже рассмотренную сист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ых уравнений (2.7). Действительно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м случае матричное уравнение (2.1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ет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непосредственно следует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ых уравнений для парной линей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403280" y="1268280"/>
                <a:ext cx="6265800" cy="248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x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x</m:t>
                                  </m:r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x</m:t>
                                  </m:r>
                                  <m:sPr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/>
                                      </m:r>
                                    </m:e>
                                  </m:sPre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y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ножая слева обе части уравнения (2.13)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ную матрицу                  определ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ом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ы уравнения регре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.8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3851280" y="1587600"/>
                <a:ext cx="136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7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484360" y="3354480"/>
                <a:ext cx="4187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равнение регрессии задано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 полинома степен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матриц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р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андермон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имеет следующ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2637000"/>
                <a:ext cx="5616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мерная регрессия – частный случай полиномиальной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2195640" y="1413000"/>
                <a:ext cx="4392360" cy="27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p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p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p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2.6. Нелинейные регрессионные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м разделе покажем, как нелине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рессионная модель может быть сведена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нию линейной множественной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) Полиномиальная множественная регрессион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черный ящик имеет, например,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а, а зависимость выхода от вх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оминает квадратичную, то целесообраз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рать такую гипотез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5445000"/>
                <a:ext cx="68407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: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ставим эти выражения в предыдущ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3059280" y="907920"/>
                <a:ext cx="1873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6"/>
              <p:cNvSpPr txBox="1"/>
              <p:nvPr/>
            </p:nvSpPr>
            <p:spPr>
              <a:xfrm>
                <a:off x="3132000" y="1773360"/>
                <a:ext cx="15843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8"/>
              <p:cNvSpPr txBox="1"/>
              <p:nvPr/>
            </p:nvSpPr>
            <p:spPr>
              <a:xfrm>
                <a:off x="3203640" y="2637000"/>
                <a:ext cx="129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0"/>
              <p:cNvSpPr txBox="1"/>
              <p:nvPr/>
            </p:nvSpPr>
            <p:spPr>
              <a:xfrm>
                <a:off x="1573200" y="4869000"/>
                <a:ext cx="57801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данная задача свед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 линейной множественной модели. А мод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го ящика теперь выглядит та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но на 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ис. 2.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897440" cy="24098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693800" y="522864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с. 2.8. Преобразованная модель черного я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используется метод наименьш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ов. Как и раньше: строится сист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ых уравнений, и опреде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2849400" y="3584520"/>
                <a:ext cx="3162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) Мультипликативная регрессион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логарифмируем левую и правую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ог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2411280" y="2637000"/>
                <a:ext cx="383544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⋯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2124000" y="4365720"/>
                <a:ext cx="504036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дисперсий проводят с помощ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ите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ритерия Фиш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я, характеризующая ошиб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я, характеризующая ошиб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сло степеней свободы модел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 соответств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3132000" y="1573200"/>
                <a:ext cx="2793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1042920" y="2997360"/>
                <a:ext cx="720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1116000" y="393048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0"/>
              <p:cNvSpPr txBox="1"/>
              <p:nvPr/>
            </p:nvSpPr>
            <p:spPr>
              <a:xfrm>
                <a:off x="395280" y="5013360"/>
                <a:ext cx="15112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вновь осуществлен перех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 линейной множественной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используется метод наименьш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763640" y="2271600"/>
                <a:ext cx="54738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 раньше: строится система норм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й и определяются 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руя выражение                    най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араметра         и общий вид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льтипликативной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771640" y="2565360"/>
                <a:ext cx="2805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8"/>
              <p:cNvSpPr txBox="1"/>
              <p:nvPr/>
            </p:nvSpPr>
            <p:spPr>
              <a:xfrm>
                <a:off x="5076720" y="3429000"/>
                <a:ext cx="1440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4203720" y="3860640"/>
                <a:ext cx="51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) Обратная регрессион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ем замену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рейдем к линейной множественной мод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2340000" y="1341360"/>
                <a:ext cx="41688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3564000" y="3284640"/>
                <a:ext cx="162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8"/>
              <p:cNvSpPr txBox="1"/>
              <p:nvPr/>
            </p:nvSpPr>
            <p:spPr>
              <a:xfrm>
                <a:off x="2394000" y="5300640"/>
                <a:ext cx="49147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г) Экспоненциальная 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логарифмируем левую и правую части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м замену                       и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пользуемся выражением для линей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енной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604960" y="1125360"/>
                <a:ext cx="4003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⋯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6"/>
              <p:cNvSpPr txBox="1"/>
              <p:nvPr/>
            </p:nvSpPr>
            <p:spPr>
              <a:xfrm>
                <a:off x="2206800" y="2924280"/>
                <a:ext cx="50907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4356000" y="3573360"/>
                <a:ext cx="1297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0"/>
              <p:cNvSpPr txBox="1"/>
              <p:nvPr/>
            </p:nvSpPr>
            <p:spPr>
              <a:xfrm>
                <a:off x="2200320" y="4221000"/>
                <a:ext cx="52513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2.7. Выбор оптимальной модели идент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 наименьших квадратов позво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наилучшую модель идентификации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я исследуемой эксперимент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ки заданным уравнением регр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меются достаточно веские осн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борки формы этого уравнения, 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аких проблем не возникает. Однако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е случаев при исслед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ная форма модели заранее неизвест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ый взгляд может показаться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сложная модель (увеличении степ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нома) всегда обеспечивает пол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й точности. На самом деле это не та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ело в том, ч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альные да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едставляют собой случай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еличин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держат лишь ограниченную информацию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характе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степени полино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сообразно лишь до тех пор, пока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й выборк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звлек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адежн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другой стороны,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величение степ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лино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заданном объ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й выборки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иводит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окращению числа степеней своб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м возникает проблема оптим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а формы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имеются не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ходов к решению эт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) метод всевозможных регрес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основан на последовательном изу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зможных моделей. При этом все 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биваются на серии в зависимости от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еденных переменных (в табл.2.2 представле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о первых серий таких модел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5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824360" cy="54723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6"/>
          <p:cNvSpPr/>
          <p:nvPr/>
        </p:nvSpPr>
        <p:spPr>
          <a:xfrm>
            <a:off x="2700360" y="3384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аблица 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иномы се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й из серий отбирается лучш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, причем в качестве крите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так называемый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ножеств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коэффициент детерминаци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й полноту исполь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в регрессионной мод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1838160" y="3016080"/>
                <a:ext cx="511020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теор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7020000" y="5718240"/>
                <a:ext cx="1417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я, характеризующая ошиб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, рассчитыва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таточная су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сло степеней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340000" y="1828800"/>
                <a:ext cx="374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теор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эксп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1187280" y="3573360"/>
                <a:ext cx="24480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теор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352520" y="4724280"/>
                <a:ext cx="21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42472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ей модели соответствует больш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Лучшие модели се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ваются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) метод исклю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редполагает исследование наи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(в пределах разумного)  модел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ую проверку на значимость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е чле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для каждого из членов мод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величина критерия Фишер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е полученного мно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ется член уравнения регре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ющий минимальному зна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это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инимальное меньше кри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ранном уровне значимости , 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ющий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лен исключается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грессионного уравнения как несуществе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5940360" y="1268280"/>
                <a:ext cx="6476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2195640" y="2637000"/>
                <a:ext cx="533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8"/>
              <p:cNvSpPr txBox="1"/>
              <p:nvPr/>
            </p:nvSpPr>
            <p:spPr>
              <a:xfrm>
                <a:off x="3492360" y="3789360"/>
                <a:ext cx="1468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чего все коэффициенты регре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читываются заново и вн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 проверка их знач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все члены модели существенны и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рессии остается в первоначальном ви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емкость метода исключений мен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метода всех возможных регресс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3435480" y="2997360"/>
                <a:ext cx="17841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) метод 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етод по существу противополо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у исключения и предусматрив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е включение в модель н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ленов с проверкой их статистической знач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равнения точности двух (или нескольк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ирующих моделей используется крите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ретная процедура включения рассмотрен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бораторной работе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значимых коэффици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и в уравнении регрессии, кро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а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экспериментальных т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ислом степеней свободы в статисти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зывается разность между чис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кспериментов и числом коэффици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равнения регр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олучения дисперсии, характеризу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шибку эксперимента, проводят      паралл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116000" y="433440"/>
                <a:ext cx="504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4572000" y="1197000"/>
                <a:ext cx="669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1258920" y="1700280"/>
                <a:ext cx="374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5867280" y="5157720"/>
                <a:ext cx="406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этих экспери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среднее арифмет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843280" y="1619280"/>
                <a:ext cx="25923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эксп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1187280" y="4005360"/>
                <a:ext cx="1368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13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число степеней своб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ьных  экспери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одна степень свобод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а для вычис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ывая, что точность статисти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ок возрастает с ростом числа степе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ы, число степеней свободы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точной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ины           можно принять рав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900000" y="476280"/>
                <a:ext cx="1511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2340000" y="5032440"/>
                <a:ext cx="720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7308720" y="5210280"/>
                <a:ext cx="576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4963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                      сравнивается с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м, взятым из таблицы распред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а (критическим значением) в соответ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ровнем значимости         и степенями своб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2843280" y="1471680"/>
                <a:ext cx="1584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4500720" y="3168720"/>
                <a:ext cx="4316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1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684360" y="3573360"/>
                <a:ext cx="863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ео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" name="Rectangle 15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124000" y="3548160"/>
                <a:ext cx="9651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ксп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0:40:51Z</dcterms:created>
  <dc:creator>Каныгин</dc:creator>
  <dc:description/>
  <dc:language>en-US</dc:language>
  <cp:lastModifiedBy>Каныгин</cp:lastModifiedBy>
  <dcterms:modified xsi:type="dcterms:W3CDTF">2021-02-06T12:47:05Z</dcterms:modified>
  <cp:revision>63</cp:revision>
  <dc:subject/>
  <dc:title>Слайд 1</dc:title>
</cp:coreProperties>
</file>