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04A-2F5E-45C2-A39B-CD3D1118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DB2-A58C-4006-923D-39F4EC2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C75-CD22-4D9E-9069-3005161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F82-BA4C-4D5F-821B-069C7ACF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67F-375E-490D-9DB8-EB2F9692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AC8-8AC8-47D1-B0D7-B85C1132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E7B-FC7B-4DF8-81DB-4CFA7DC0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E13-0F7D-4596-A6DC-66BCDEE2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CB6-CC4B-4A24-BC4A-99C4A8EC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DA5-7D59-48CC-9602-47B7F0F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1A6-3966-45E1-9EBB-B2DD41A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F47-FDBA-49F6-8717-7B171BB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1B3-F560-412C-857B-334EAE90D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4. Дискретно-детерминированные модел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-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х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ерминированных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дение и структура автомата в кажд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 времени однозначно определ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ущей входной информацией и состоя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оятнос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автоматах они зависят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ого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тно конечный автомат можно представить как математическую схему (F - схему), которая характеризуется шестью видами переменных и функ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a3a3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Конечное множество x(t) входных сигналов (входной алфави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a3a3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Конечное множество y(t) выходных сигналов (выходной алфави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a3a3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Конечное множество z(t) внутренних состояний (алфавит состоян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328680" y="1298520"/>
            <a:ext cx="8370720" cy="485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324000" y="652320"/>
            <a:ext cx="85708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страктный конечный автомат имеет од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 и один выход. В каждый дискре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 времени t=0,1,2,...   F- авт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в определенном состоянии z(t)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а Z - состояний автомата, причем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й момент времени t=0 он все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в начальном состоянии z(0)=z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мент t , будучи в состоянии z(t), авт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ен воспринять на входном кан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∈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дать на выходном канале сигн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]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я в состояни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1)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]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∈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∈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конечного автомата происходит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ей схеме: на каждом t - ом такт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 автомата, находящегося в состоянии z(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ется некоторый сигнал x(t), на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 реагирует переходом на (t+1)-ом та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вое состояние z(t+1) и выдачей не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ого сигна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   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В зависимости от способа опред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выходного сигнала абстрактные </a:t>
            </a: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коне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автоматы (синхронные) подразделяют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два типа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особы задания автом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аблич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втомат М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автомата Мили табличный способ заключается в построении двух таблиц: таблицы переходов (ТП) и таблицы выходов (Т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– таблица переходов, б – таблица вы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60786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Таблица пер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Таблица вы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10240" cy="116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619280" y="4581360"/>
            <a:ext cx="5581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рафов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 представляется ориентирова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ным графом (орграфом), верш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го соответствуют состояниям автом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дуги – переходам из состояния в состоя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я входных и выходных сигн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яются в автоматах Мили и М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-разн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етно-детерминирован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ен тем, что в каче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ого аппарата на этап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зации процесса функцио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 используется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темат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ппарата математический аппарат те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втоматов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автомата Мили в виде 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12416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формировании графа для автомата М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учитывать, что значения выход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ов y(t), определяемые знач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ущего состоя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t) и входных сигналов х(t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ятся в соответствие самой ду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66840" y="309600"/>
            <a:ext cx="84103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Например, если у человека есть одна мо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номиналом в 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0 рублей и две монеты номиналом</a:t>
            </a: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22222"/>
                </a:solidFill>
                <a:latin typeface="Arial"/>
              </a:rPr>
              <a:t>5 рублей и монеты забрасываются в порядке 10, 5 и 5 рублей, то происходит следующ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Автомат переходит в состояние 10 р. и ничего не выд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втомат переходит в состояние 15 р. и ничего не выда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Автомат переходит в состояние 0 р., выдает шоколадку и не возвращает с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говый автомат по продаже шоколад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ю 2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1979640" y="441360"/>
            <a:ext cx="5019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т М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а переходов и таблица выходов объединяются, и добавляется строка выходных сигналов, соответствующих состояниям автом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переходов и вы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059280" y="2781360"/>
            <a:ext cx="278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1. Таблица переходов и выхо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781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3002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автомата Мура в виде г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101600" y="476280"/>
            <a:ext cx="70009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2" descr=""/>
          <p:cNvPicPr/>
          <p:nvPr/>
        </p:nvPicPr>
        <p:blipFill>
          <a:blip r:embed="rId1"/>
          <a:stretch/>
        </p:blipFill>
        <p:spPr>
          <a:xfrm>
            <a:off x="324000" y="506520"/>
            <a:ext cx="84960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триггера представлена таб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90680" y="1052640"/>
            <a:ext cx="6086520" cy="21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951440" y="4140360"/>
            <a:ext cx="307656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595440" y="4421160"/>
            <a:ext cx="3905280" cy="1895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008680" y="3357720"/>
            <a:ext cx="2876400" cy="67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1403280" y="3413160"/>
            <a:ext cx="1305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автоматов - это разд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ой кибернетики, в ко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тся математические модели - авто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е этой теории система предста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иде автомата, перерабатыв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етную информацию и меняющего сво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состояния лишь в допуст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ы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меч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втомате Мили выходной сигн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батывается при переходе, а в автом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 присутствует в течение всего пери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етного времени, пока автомат находитс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м состоя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5. Дискретно-стохастические модели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х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90680" y="647640"/>
            <a:ext cx="8162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Объект 2" descr=""/>
          <p:cNvPicPr/>
          <p:nvPr/>
        </p:nvPicPr>
        <p:blipFill>
          <a:blip r:embed="rId1"/>
          <a:stretch/>
        </p:blipFill>
        <p:spPr>
          <a:xfrm>
            <a:off x="324000" y="579600"/>
            <a:ext cx="83628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328680" y="719280"/>
            <a:ext cx="83707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Объект 2" descr=""/>
          <p:cNvPicPr/>
          <p:nvPr/>
        </p:nvPicPr>
        <p:blipFill>
          <a:blip r:embed="rId1"/>
          <a:stretch/>
        </p:blipFill>
        <p:spPr>
          <a:xfrm>
            <a:off x="324000" y="506520"/>
            <a:ext cx="8362800" cy="594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95160" y="2133720"/>
            <a:ext cx="7734600" cy="79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556000" y="3213000"/>
            <a:ext cx="1838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Объект 2" descr=""/>
          <p:cNvPicPr/>
          <p:nvPr/>
        </p:nvPicPr>
        <p:blipFill>
          <a:blip r:embed="rId1"/>
          <a:stretch/>
        </p:blipFill>
        <p:spPr>
          <a:xfrm>
            <a:off x="324000" y="1511280"/>
            <a:ext cx="8362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765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роятностный автомат М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элементы множества G индуцируют некоторые законы распределения на подмножествах Y и Z, что можно представить соответственно в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7191720" cy="1438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835280" y="4941720"/>
            <a:ext cx="421956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324000" y="652320"/>
            <a:ext cx="84960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507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роятностный автомат М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теперь определение выходного сиг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-автомата зависит лишь от того состояния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м находится автомат в данном так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ы. Другими словами, пусть каждый 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ого подмножества Y индуц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вероятностей выходов, име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826920" y="4525920"/>
            <a:ext cx="7605720" cy="91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2843280" y="5589720"/>
            <a:ext cx="223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 можно представить как некотор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о (черный ящик), на котор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ются входные сигналы и сним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ые и которое может иметь не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е состояния. Конечным автома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автомат, у которого множ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их состояний и входных сигн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 следовательно, и множество выход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ов) являются конечными множ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Объект 2" descr=""/>
          <p:cNvPicPr/>
          <p:nvPr/>
        </p:nvPicPr>
        <p:blipFill>
          <a:blip r:embed="rId1"/>
          <a:stretch/>
        </p:blipFill>
        <p:spPr>
          <a:xfrm>
            <a:off x="324000" y="579600"/>
            <a:ext cx="83628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усть зада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 задан матр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атрицей вы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33912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2936880" y="5029200"/>
            <a:ext cx="264312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2" descr=""/>
          <p:cNvPicPr/>
          <p:nvPr/>
        </p:nvPicPr>
        <p:blipFill>
          <a:blip r:embed="rId1"/>
          <a:stretch/>
        </p:blipFill>
        <p:spPr>
          <a:xfrm>
            <a:off x="189000" y="652320"/>
            <a:ext cx="88819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2" descr=""/>
          <p:cNvPicPr/>
          <p:nvPr/>
        </p:nvPicPr>
        <p:blipFill>
          <a:blip r:embed="rId1"/>
          <a:stretch/>
        </p:blipFill>
        <p:spPr>
          <a:xfrm>
            <a:off x="324000" y="579600"/>
            <a:ext cx="8362800" cy="169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11280" y="2422440"/>
            <a:ext cx="7791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Объект 2" descr=""/>
          <p:cNvPicPr/>
          <p:nvPr/>
        </p:nvPicPr>
        <p:blipFill>
          <a:blip r:embed="rId1"/>
          <a:stretch/>
        </p:blipFill>
        <p:spPr>
          <a:xfrm>
            <a:off x="324000" y="719280"/>
            <a:ext cx="8362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81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124000" y="784080"/>
            <a:ext cx="4395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800280" y="1341360"/>
            <a:ext cx="7403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7138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 видом дискретно-детерминированных моделей является конечный автом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ечным автоматом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азывают дискретный преобразователь информации, способный под воздействием входных сигналов переходить из одного состояния в другое и формировать сигналы на выходе. Это автомат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Для организации памяти в описание автомата вводят автоматное время и поняти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остояние»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а означ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ходной сигнал автомата зависит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от входных сигналов в данный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, но и учитывает входные сигнал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упающие ранее. Это позволяет устран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как явную переменную и выраз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ые сигналы как функцию состояний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ных сигн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Всякий переход автомата из одного состояния в другое возможен не ранее, чем через дискретный интервал времени. Причем сам переход считается, происходит мгновенно, то есть не учитывают переходные процессы в реальных сх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a3a"/>
                </a:solidFill>
                <a:latin typeface="Helvetica Neue"/>
              </a:rPr>
              <a:t>	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Существует два способа введения автоматного времени по которому автоматы делятся на</a:t>
            </a: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 синхронные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 и </a:t>
            </a: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асинхронные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362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В </a:t>
            </a:r>
            <a:r>
              <a:rPr b="1" lang="ru-RU" sz="2800" spc="-1" strike="noStrike">
                <a:solidFill>
                  <a:srgbClr val="3a3a3a"/>
                </a:solidFill>
                <a:latin typeface="Helvetica Neue"/>
              </a:rPr>
              <a:t>синхронных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 автоматах моменты вре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в которых фиксируются изменения со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автомата, задаются специальным устройство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генератором синхросигналов. Причем сигн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поступают через равные интервалы времен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MathJax_Main"/>
              </a:rPr>
              <a:t>Δ</a:t>
            </a:r>
            <a:r>
              <a:rPr b="0" i="1" lang="ru-RU" sz="2800" spc="-1" strike="noStrike">
                <a:solidFill>
                  <a:srgbClr val="3a3a3a"/>
                </a:solidFill>
                <a:latin typeface="MathJax_Math"/>
              </a:rPr>
              <a:t>t</a:t>
            </a: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 . Частота тактового генератора выбир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такой, чтобы любой элемент автомата усп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закончить свою работу до поя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3a3a"/>
                </a:solidFill>
                <a:latin typeface="Helvetica Neue"/>
              </a:rPr>
              <a:t>очередного импуль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автомате моменты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а из одного состояния в другое зара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пределены и зависят от конкре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ытий. В таких автоматах интер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етности является перем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существую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ерминирова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оятностные автома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6:40:47Z</dcterms:created>
  <dc:creator>Каныгин</dc:creator>
  <dc:description/>
  <dc:language>en-US</dc:language>
  <cp:lastModifiedBy>Каныгин</cp:lastModifiedBy>
  <dcterms:modified xsi:type="dcterms:W3CDTF">2019-08-17T15:22:33Z</dcterms:modified>
  <cp:revision>115</cp:revision>
  <dc:subject/>
  <dc:title>3. Динамические модели</dc:title>
</cp:coreProperties>
</file>