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AC1C-1457-459C-A5EC-E97D9D60BD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7012-1BFD-4A5E-B2C6-E47986C48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2846-2108-4E10-98E5-278E6EA2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72AF-466A-4426-9D09-02BC1F6A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7E01-D050-4BAB-B981-9CA254C8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F2AD-E512-41A0-AE4E-81821BCD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ACD2-0C4C-428E-BD9E-CB320334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D0AB-96BE-49AC-B02B-467035B0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EBEE-6AEB-45CD-A20C-94F73D19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CC1B-F4FE-44ED-A910-68B5BA45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29B-D1F0-49AE-AECF-A1D0327B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FDD7-9307-4C3D-A2A8-1DDB85A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347F-9568-4963-93B6-EC9F29D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4FBE-B3C2-4B6F-A9B8-88EE206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E03C-000C-4079-9072-45F792AD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36CF-E21B-423F-BB9C-2738F7B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C42-1B66-451E-8114-0D87B432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D8AE-A466-4F29-87A0-6267D63C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1972-95FE-44BD-AFD9-7EA665FD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7F43-9AB4-4192-807B-46EA125E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AAF7-E19A-42B6-9E77-DB49529D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8789-FA2A-4BBD-A5D4-F4AFD60B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CB95A-7895-44D2-83EB-CD4AD206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0225-7FA6-47CC-BED1-9C4ACB0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5F5EB-03FE-4376-8A61-EFD1985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8D86-6C65-4172-9F57-616C4754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7D9E-1B30-46D9-8AF5-1DE90092DF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496-D8BB-4F7E-9C9C-093264D33D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8920" y="1844640"/>
            <a:ext cx="6472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999cc"/>
                </a:solidFill>
                <a:latin typeface="Arial"/>
              </a:rPr>
              <a:t>3.Математические схемы моделирования 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 дискретно-стохастическим моделя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вероятностные (стохастические) системы или 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йс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stic automat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юда названи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-автомат (схе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30464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ом типовой схемы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прерывно-стохастического тип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ет служить схема системы массового обслуживания (СМО) или по-английс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 system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сюда название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Q-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х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качестве процесса обслуживания в СМО различные по физической природе процессы функционирования экономических, производственных, технических и других сист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) математическая схема обще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математической схемы общего вида модель объекта моделирования, т.е. исследуемой системы, представляется в виде множества величин, описывающих процесс функционирования реальной системы и образующих четыре непересекающихся подмножеств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01592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множество совокупности входных воздействий на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множество совокупности воздействий внешней среды на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951280" y="2276640"/>
                <a:ext cx="2917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ba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3024360" y="4724280"/>
                <a:ext cx="287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ba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множество совокупности внутренних (собственных) параметров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множество совокупности выходных характеристик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771640" y="2421000"/>
                <a:ext cx="298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ba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4689360"/>
                <a:ext cx="3276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4963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моделировании системы вход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ействия      , воздействия внеш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ы      и внутренние параме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      являются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езависим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(экзогенными)  перемен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 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ные  характеристики   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висимыми (эндогенными)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3203640" y="1628640"/>
                <a:ext cx="366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3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0"/>
              <p:cNvSpPr txBox="1"/>
              <p:nvPr/>
            </p:nvSpPr>
            <p:spPr>
              <a:xfrm>
                <a:off x="1908000" y="2203560"/>
                <a:ext cx="338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5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2"/>
              <p:cNvSpPr txBox="1"/>
              <p:nvPr/>
            </p:nvSpPr>
            <p:spPr>
              <a:xfrm>
                <a:off x="2411280" y="2889360"/>
                <a:ext cx="284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6588000" y="3968640"/>
                <a:ext cx="38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700360" y="1305000"/>
            <a:ext cx="3348000" cy="3152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144440" y="4760640"/>
            <a:ext cx="71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 3.2. Модель, построенная на осн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тематической схемы обще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функционирования системы описывается во времени оператором, который в общем случа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еобразует экзогенные переменные в эндогенные в соответствии с соотношением в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(3.1) называется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коном функционирования систе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обозначает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792000" y="3645000"/>
          <a:ext cx="6424920" cy="61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3645000"/>
                    <a:ext cx="64249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3959280" y="5553000"/>
                <a:ext cx="68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4596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щем случае зак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ирования систем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задан в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виде фун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функциона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логических усло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в алгоритмическ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табличной форм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в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виде словес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правила соответ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6192720" y="1916280"/>
                <a:ext cx="511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15560"/>
            <a:ext cx="822960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) понятие математической сх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сследования характеристик процесса функционирования любой системы математическими методами должна быть проведена формализация этого процесса, т.е.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строена математическая мод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Эта задача решается с помощью математических схем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58560" y="980640"/>
            <a:ext cx="867708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атематическая схе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й звено при переходе от содержате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ормальному описанию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онирования системы с учё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действия внешней среды, т.е. имеет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почка «описательная модель – матема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- математическая модел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тично процесс форм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 на рис. 3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116000" y="1881360"/>
          <a:ext cx="6948360" cy="19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81360"/>
                    <a:ext cx="694836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120680" y="4577760"/>
            <a:ext cx="69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 3.1. Схема процесса форм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актике моделирования используютс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ематическая схема общего ви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иповые математическ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Математическая схема общего вид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формализовать широ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систе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873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иповые  математические  схемы включаю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i="1" lang="ru-RU" sz="3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схемы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рерывно-детерминирова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схем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скретно-детерминированны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ru-RU" sz="3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сх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скретно-стохастическ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i="1" lang="ru-RU" sz="3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сх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непрерывно-стохастически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и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i="1" lang="ru-RU" sz="30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сх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обобщённые мо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емы не обладают общностью, но имеют преимущества простоты и нагляд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 непрерывно-детерминированным моделя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модели, описываемые системами обыкновенных дифференциальных уравнений или уравнений в частных производных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качестве независимо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ой, от которой зависят неизвестные искомые функци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лужит врем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Математические схемы такого вида отражают динамику изучаемой системы и поэтому называются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схем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нгл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160640"/>
            <a:ext cx="82296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 дискретно-детерминированным моделя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так называемые конечные автоматы. Автомат можно представить как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которое устройство, на которое подаются входные сигналы и снимаются выходные и которое может иметь некоторое внутреннее состоя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 конечного автомата множество входных сигналов и внутренних состояний является конечным множеством. Наз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схем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латинских сл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 automata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3:48:46Z</dcterms:created>
  <dc:creator>Мой компьютер</dc:creator>
  <dc:description/>
  <dc:language>en-US</dc:language>
  <cp:lastModifiedBy>Каныгин</cp:lastModifiedBy>
  <dcterms:modified xsi:type="dcterms:W3CDTF">2019-02-10T19:33:44Z</dcterms:modified>
  <cp:revision>74</cp:revision>
  <dc:subject/>
  <dc:title>Системы счисления.  </dc:title>
</cp:coreProperties>
</file>