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AFD-B9D3-411E-B445-97AFF7ED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A98-7243-407A-B4AE-BB63B2C3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A14-464F-4B91-A0D0-10CFCF2F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79F-3E14-4806-AF6D-D4D4654D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4EC-1BEB-4F44-88E9-84D9FA4E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BAF-60E8-4470-89AB-1AA977F4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B16-3B1F-4CF9-9539-60394D1D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D95-32D9-4C11-8405-CE2C107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B96-4B07-4EF7-A314-FAEB28DF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3ED-A915-4226-BAA4-2E74E926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CDD-34C8-4984-BB2D-1B53CDC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AB5-FD11-49D2-AE8A-37B47206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B924-2D59-4B46-B585-E26AC1B27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2.3. Методы планирования экспериментов с моделями сист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число факторов равн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ей каждого фактора равн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име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ый факторный эксперимент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актике обычно используют пла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сматривающие фиксирование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ов на двух (планы                        ) 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о реже, на трех (планы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4986360" y="3786120"/>
                <a:ext cx="1906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6372360" y="4270320"/>
                <a:ext cx="1871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Объект 1"/>
              <p:cNvSpPr txBox="1"/>
              <p:nvPr/>
            </p:nvSpPr>
            <p:spPr>
              <a:xfrm>
                <a:off x="6966000" y="1628640"/>
                <a:ext cx="684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Объект 3"/>
          <p:cNvGraphicFramePr/>
          <p:nvPr/>
        </p:nvGraphicFramePr>
        <p:xfrm>
          <a:off x="2124000" y="476280"/>
          <a:ext cx="5184720" cy="60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476280"/>
                    <a:ext cx="5184720" cy="60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ставлении плана ПФЭ       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го фактора выбирается нуле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зовый) уровень        , соответству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цент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ксперимен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Объект 3"/>
              <p:cNvSpPr txBox="1"/>
              <p:nvPr/>
            </p:nvSpPr>
            <p:spPr>
              <a:xfrm>
                <a:off x="6227640" y="1628640"/>
                <a:ext cx="4795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Объект 4"/>
              <p:cNvSpPr txBox="1"/>
              <p:nvPr/>
            </p:nvSpPr>
            <p:spPr>
              <a:xfrm>
                <a:off x="4211640" y="2637000"/>
                <a:ext cx="6285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, но не обязательно, он выбирается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тре диапазона варь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ется шаг варь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й отклонение фактора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левого уровня. Эксперимент проводитс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 значениях факторов           и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340000" y="1913040"/>
                <a:ext cx="36734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6300720" y="3213000"/>
                <a:ext cx="727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008680" y="4633920"/>
                <a:ext cx="688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0"/>
              <p:cNvSpPr txBox="1"/>
              <p:nvPr/>
            </p:nvSpPr>
            <p:spPr>
              <a:xfrm>
                <a:off x="6372360" y="4619520"/>
                <a:ext cx="690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2"/>
              <p:cNvSpPr txBox="1"/>
              <p:nvPr/>
            </p:nvSpPr>
            <p:spPr>
              <a:xfrm>
                <a:off x="1833480" y="5516640"/>
                <a:ext cx="5695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варьирования выбирается на осно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а и интуиции исследователя и обыч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блегчения расчетов удобно пров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ировку факторов с помощью пре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нижнее и верхнее значение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ы  -1 и  +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619280" y="162864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132000" y="3284640"/>
                <a:ext cx="24480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2916360" y="5522760"/>
                <a:ext cx="36655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ение экспериментов при планир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о на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рис.2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7989840" y="395280"/>
                <a:ext cx="479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Rectangle 7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"/>
          <p:cNvPicPr/>
          <p:nvPr/>
        </p:nvPicPr>
        <p:blipFill>
          <a:blip r:embed="rId1"/>
          <a:stretch/>
        </p:blipFill>
        <p:spPr>
          <a:xfrm>
            <a:off x="2916360" y="5950080"/>
            <a:ext cx="3190680" cy="37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2"/>
          <a:stretch/>
        </p:blipFill>
        <p:spPr>
          <a:xfrm>
            <a:off x="1487520" y="1341360"/>
            <a:ext cx="59641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я эксперимента представляют в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цы-матрицы планирования, в кот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роки соответствуют различ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спериментам, а столбцы значениям факто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а планирования          приведен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.2.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упрощения и унификации записи усло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ов и облегчения обработки данных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ах планирования обычно вместо -1 и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ют: на нижнем уровн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-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на верх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+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5133960" y="2401920"/>
                <a:ext cx="479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2052720" y="907920"/>
            <a:ext cx="6048360" cy="105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8"/>
          <p:cNvGraphicFramePr/>
          <p:nvPr/>
        </p:nvGraphicFramePr>
        <p:xfrm>
          <a:off x="-36360" y="2206800"/>
          <a:ext cx="9396360" cy="259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2206800"/>
                    <a:ext cx="93963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           позволяет опреде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 коэффициента уравнения регре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 может быть представлена в ви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лного квадратного урав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ющего свободный член, линей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ы и эффект двойного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3708360" y="663480"/>
                <a:ext cx="547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1528920" y="4437000"/>
                <a:ext cx="5995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351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абл.3.1 добавлен столбец фиктив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нной        , необходимый для оцен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го ч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, в котором число экспериментов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у определяемых коэффици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зывается насыщен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реализации плана получают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я с 4 неизвестными, их решение и д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у всех 4 коэффициентов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ре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809800" y="1138320"/>
                <a:ext cx="5097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3635280" y="1697040"/>
                <a:ext cx="614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2414520" y="5367240"/>
                <a:ext cx="208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424320" y="1135080"/>
            <a:ext cx="530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ю планирования эксперимента является создание таких планов покачивания входных переменных, которые обеспечивают более быстрое и точное построение модели объ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2838600" cy="1333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826920" y="400392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 объекта состоит из неизвестного сигнала (функции от входов) и центрированной помех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Объект 4"/>
              <p:cNvSpPr txBox="1"/>
              <p:nvPr/>
            </p:nvSpPr>
            <p:spPr>
              <a:xfrm>
                <a:off x="2630520" y="5084640"/>
                <a:ext cx="32367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мер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из основных целей в тео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 - это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птим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пользование факторного пространства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ллюстрируем идею на простом приме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е о взвешивании трех объекто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диционно эксперимент проводится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ей сх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73" descr=""/>
          <p:cNvPicPr/>
          <p:nvPr/>
        </p:nvPicPr>
        <p:blipFill>
          <a:blip r:embed="rId1"/>
          <a:stretch/>
        </p:blipFill>
        <p:spPr>
          <a:xfrm>
            <a:off x="1476360" y="4292640"/>
            <a:ext cx="5688000" cy="14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174"/>
          <p:cNvGraphicFramePr/>
          <p:nvPr/>
        </p:nvGraphicFramePr>
        <p:xfrm>
          <a:off x="-539640" y="1251000"/>
          <a:ext cx="10225080" cy="246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0" name="Object 17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39640" y="1251000"/>
                    <a:ext cx="102250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ачала проводится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«холосто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взвешивание - определяется нулевая т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ве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тем по очереди взвешиваются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имер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днофакторног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десь изучается поведение каждого фактора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определяется по результатам двух опы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рсия результатов взвеши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исперсия ошибки взвеш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116000" y="1484280"/>
          <a:ext cx="698508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84280"/>
                    <a:ext cx="69850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763640" y="2924280"/>
                <a:ext cx="51832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8"/>
          <p:cNvGraphicFramePr/>
          <p:nvPr/>
        </p:nvGraphicFramePr>
        <p:xfrm>
          <a:off x="1332000" y="4187880"/>
          <a:ext cx="115236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187880"/>
                    <a:ext cx="11523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8218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ругую схему про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1"/>
          <p:cNvGraphicFramePr/>
          <p:nvPr/>
        </p:nvGraphicFramePr>
        <p:xfrm>
          <a:off x="-612720" y="2421000"/>
          <a:ext cx="10585440" cy="255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2720" y="2421000"/>
                    <a:ext cx="1058544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 каждого тела определяется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411280" y="2060640"/>
                <a:ext cx="4105440" cy="30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ес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с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ес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ислители стоят элементы последн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бца со знаками, указанными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ющих столбца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, В,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Мы вид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и вычислении, скажем, веса А он вхо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ислитель два раза, и поэтому в знамена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т число 2. Вес объекта А, вычисленный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енной выше формуле, ок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искаженным весами объектов В и С, так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каждого из них входит в формулу для ве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а А дважды и с разными зна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ия результатов взвешивания по новой сх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овой схеме взвешиван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испе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двое меньш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хотя в каждом случа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ялось по четыре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900000" y="2205000"/>
                <a:ext cx="74883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точности эксперимента в д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а происходит по той причине, что в пер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е вес определялся по результатам дву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ов, во втором случае -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ам всех четыр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схема эксперимен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ногофакторная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десь оперируют все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ами так, чтобы каждый вес вычислять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ам всех опытов, проведенных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й серии экспери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а ПФЭ обладает следующ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ойство симметрич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алгебраическая сумма элементов вектор - столбца каждого фактора равна нулю (за исключением столбца, соответствующему свободному член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омер фа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омер экспери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3925800" y="4067280"/>
                <a:ext cx="15829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любая машина или станок, используемый на производстве, позволяет операторам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змен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личные настройки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лия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качество производимого продукта. Эксперименты позволяют инженеру, ответственному за производство, улучшать настройки машины, а такж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яснить ка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носят наиболее важный вклад в качество продукции. Использование этой информации позволяет улучшить настройки системы, достигнув оптимального ка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) c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ойство нормир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умма квадратов элементов каждого столбца равна числу опы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76720" y="2997360"/>
                <a:ext cx="201600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700360" y="1200240"/>
            <a:ext cx="352728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) c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ойство ортогональност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калярное произведение всех вектор – столбцов (сумма почленных произведений элементов любых двух векторов – столбцов матрицы) равно ну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2075040" y="3141720"/>
                <a:ext cx="50655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d)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ототабельность матр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и в матрице планирования  подбир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, чтобы точность предсказания знач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метра оптимизации была одинаков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ых расстояниях от центра эксперимент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висела от напр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ы, для которых выполняется усло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),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азываются ортогональ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Благода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му свойству резко уменьшаются труд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нные с расчетом коэффици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я ре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кольку результаты наблюдений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ос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лучайный характ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для повы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ости  результатов целесообразно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ом сочетании факторов проводить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дин, а несколько экспериментов и в каче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ыходного значения функции откл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нимать их средн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такого эксперимента для случая дву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ов и трех экспериментов приведен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.2.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5"/>
          <p:cNvGraphicFramePr/>
          <p:nvPr/>
        </p:nvGraphicFramePr>
        <p:xfrm>
          <a:off x="-396720" y="1916280"/>
          <a:ext cx="10009080" cy="24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1916280"/>
                    <a:ext cx="1000908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877080" y="1197000"/>
            <a:ext cx="16002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проведения всех (в данном случа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-ти) экспериментов должен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ндомизиров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определен с помощ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цы случайных чисел, что позво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лючить влияние временного дрейф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 исследуем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ется это следующим образ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ется произвольный участок табл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йных чисел, и последова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атриваются его строки или столбцы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го ме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(очередность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я экспериментов назначае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ии с очередностью появления чис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… 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ри просмотре участка табл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а, большие по значению, чем ном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ов, пропускаю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яющиеся числа учитываются л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аз, а далее также пропускаю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 к планированию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кратного повторения план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ем в первом случае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ижнем, а во втором на верхнем уро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ис.2.1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364000" y="1077840"/>
                <a:ext cx="490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7236000" y="1562040"/>
                <a:ext cx="547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894200" y="2104920"/>
                <a:ext cx="5097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977080" cy="465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2124000" y="5587920"/>
            <a:ext cx="5040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3.1. Полный факторный эксперимент (ПФЭ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ФЭ служит для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ого описания процесса в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езка ряда Тейл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тим, что коэффициенты иском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я определяются на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ых данных и, следователь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ут на себе отпечаток погреш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7164360" y="1052640"/>
            <a:ext cx="1552680" cy="34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Object 14"/>
          <p:cNvGraphicFramePr/>
          <p:nvPr/>
        </p:nvGraphicFramePr>
        <p:xfrm>
          <a:off x="590400" y="1565280"/>
          <a:ext cx="8229600" cy="326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565280"/>
                    <a:ext cx="822960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 может быть представлена в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ключает в себя свободный член, лине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ы, эффекты двойн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эффекты тройн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24000" y="1989000"/>
                <a:ext cx="857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огично можно построить мат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я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задач боль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ности. При этом  дважды повтор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меньшей размерн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ем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ервый раз новый фактор берется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ижнем, а второй раз на верхнем уров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3203640" y="1600200"/>
                <a:ext cx="547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6859440" y="2583000"/>
                <a:ext cx="1070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омпактной записи плана эксперим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отдельных экспери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ются буквенное обозначение – к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. Каждому из варьируе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ов сопоставляется буква латин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фав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буквенное обозначение выносятся бук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ющие факторам,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ходящимс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ерхнем уровн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2050920" y="3708360"/>
                <a:ext cx="5329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, для факторов планирования  код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ывает на то, что на верхнем уровне зад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        и          а фактор        находится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жне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означает, что фактор       наход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ижнем уровне, а факторы                -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хнем уро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2195640" y="2060640"/>
                <a:ext cx="45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3152880" y="2060640"/>
                <a:ext cx="698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8"/>
              <p:cNvSpPr txBox="1"/>
              <p:nvPr/>
            </p:nvSpPr>
            <p:spPr>
              <a:xfrm>
                <a:off x="5651640" y="2062080"/>
                <a:ext cx="507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0"/>
              <p:cNvSpPr txBox="1"/>
              <p:nvPr/>
            </p:nvSpPr>
            <p:spPr>
              <a:xfrm>
                <a:off x="6012000" y="3173400"/>
                <a:ext cx="452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Rectangle 1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2"/>
              <p:cNvSpPr txBox="1"/>
              <p:nvPr/>
            </p:nvSpPr>
            <p:spPr>
              <a:xfrm>
                <a:off x="5940360" y="3711600"/>
                <a:ext cx="10080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ксперимента, где все факторы зад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ижнем уровне, используется обо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ые факторные эксперименты  и 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ть к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547640" y="39330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)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1)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42472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дчеркнуть это обстоятельство,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и (2.3) вместо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ающих истинное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ов пишут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6227640" y="1413000"/>
                <a:ext cx="479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Rectangle 7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349280" y="3665520"/>
                <a:ext cx="6175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</m:e>
                      <m:lim>
                        <m:r>
                          <m:t xml:space="preserve">k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4963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брана модель планиров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е. выбран вид функции (2.15) и запис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, то остается спланировать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эксперимент для оценки числов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й коэффициентов этого урав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эксперимента, позволяющий вычис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ы линейного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рессии, называют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ланом первого порядка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эксперимента, позволяющий вычисл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ы полного уравнения регре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й степени, будет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ланом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-го 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фактор  меняется в определен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пазо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фактически принимает ряд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й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го диапаз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2949480" y="3141720"/>
                <a:ext cx="30625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5622840" y="3860640"/>
                <a:ext cx="576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2340000" y="5013360"/>
            <a:ext cx="49816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число возможных экспериментов дается соотнош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при одинаковом значении фиксиров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й (уровней) для всех фактор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3132000" y="1557360"/>
                <a:ext cx="30243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468360" y="4005360"/>
                <a:ext cx="2448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3565440" y="4869000"/>
                <a:ext cx="2735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7850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, при котором реализуются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е сочетания факторов, принято наз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олным факторным экспериментом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ПФЭ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выражения  (2.17) следует, что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факторных задачах при несколь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ованных уровнях факторов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бщее чис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спериментов оказывается чрезвычай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оль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4:49:58Z</dcterms:created>
  <dc:creator>Каныгин</dc:creator>
  <dc:description/>
  <dc:language>en-US</dc:language>
  <cp:lastModifiedBy>Каныгин</cp:lastModifiedBy>
  <dcterms:modified xsi:type="dcterms:W3CDTF">2021-02-06T13:58:52Z</dcterms:modified>
  <cp:revision>49</cp:revision>
  <dc:subject/>
  <dc:title>Слайд 1</dc:title>
</cp:coreProperties>
</file>