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12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14.png" ContentType="image/png"/>
  <Override PartName="/ppt/media/image9.wmf" ContentType="image/x-wmf"/>
  <Override PartName="/ppt/media/image41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10.wmf" ContentType="image/x-wmf"/>
  <Override PartName="/ppt/media/image32.png" ContentType="image/png"/>
  <Override PartName="/ppt/media/image2.png" ContentType="image/png"/>
  <Override PartName="/ppt/media/image25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12EE-8808-4B40-97DD-B499FC0D4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006D-E2D8-4F98-B7F3-173D8090B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AAE4-3DB3-48C0-A170-3F4B7DF48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880B-A936-4575-B554-73247C519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38C5-64DB-4FAC-8F3C-0DDDCB901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F399-4523-4EC9-8577-9A48F2E55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F1B1-B0D6-408A-B438-4B8ABF5A6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CCD6-038D-4FBE-ABA8-CDACA5CAF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CB12-CC0D-4C29-B11E-1D258653F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7EF2-DA1D-47A4-9791-855029DA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97A6-59B8-41EB-BBB4-13D04A83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0B7E-1179-49B9-92EC-79BB33E5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CEFD0-A8B6-4D41-9D2A-A4B3CA91FD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7155D-619F-4CE0-A370-0D481431EA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0920" y="980640"/>
            <a:ext cx="806436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3.1. Моделирование систем массового обслуживания</a:t>
            </a:r>
            <a:br>
              <a:rPr sz="4400"/>
            </a:b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Q – </a:t>
            </a: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схемы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F638D-E6C7-40E8-8ED9-CEF6E7507D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368280" y="1197000"/>
            <a:ext cx="8331120" cy="3600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1843200" y="5084640"/>
            <a:ext cx="54576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Предметом теории массового обслуживания являе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роение математических моделей, связывающих заданные условия работы СМО (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число каналов, их производительность, правила работы, характер потока заяво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с интересующими исследователя характеристиками – показателями эффективности СМО, описывающими, с той или иной точки зрения, ее способность  справляться с потоком заяв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09459-C78C-4A8F-87BB-4C5D83E346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6840" y="549000"/>
            <a:ext cx="84358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качестве таких показателей, в зависимости от обстановки и целей исследования, могут применяться разные величи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среднее число заявок, обслуживаемых в СМО в единицу времен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среднее число занятых канал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среднее число заявок в очеред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среднее время ожидания обслужи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вероятность того, что число заявок в очереди не превысит какое-то значение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74849-3A1A-4222-AA55-842355ED1A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цесс работы СМО представляет собой случайный процесс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с дискретными состояниями и непрерывным времен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ояние СМО меняется скачком в моменты появления каких-то событ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прихода новой заяв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окончания обслужи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момента, когда заявка покидает очеред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DED28-2A7E-49DC-9701-59D7069791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Цель клиент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заявки. Требования: затратить как можно меньше времени, простаивая в очере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Цель обслуживающей системы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обслуживающих устройств, каналов обслуживания: как можно меньше времени находиться в состоянии вынужденных просто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Цель анализа СМ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достигнуть разумного компромисса между требованиями «клиента» и мощностью обслуживаемой сист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FFEFD-37C5-486E-A748-4E97E1D068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По характеру поступающего потока заявок СМО можно классифицирова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ционарные СМ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стационарные СМ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МО со стационарным потоком заявок </a:t>
            </a: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интенсив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этого потока не меняется со временем, нестационарных – меня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нсивность потока заявок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измеряется математическим ожиданием числа заяво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поступающих в единицу врем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3B8B8-8B5F-41DF-850C-4DB17869EC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68360" y="549000"/>
            <a:ext cx="84247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По характеру обслуживания заявок СМО делятся 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замкнуты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источник включен в систему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разомкнуты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источник не входит в систему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замкнутых СМО обслуживаются ограниченное число заявок и обслуженная заявка через некоторое время вновь возвращается на обслужи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разомкнутых СМО поток, поступающих на обслуживание заявок, практически не ограниче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913BB-AF83-4750-8886-0FF7A97EF0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Пример замкнутой СМ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чий-наладчик обслуживает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танков. Каждый станок может в любой момент выйти из строя и потребовать обслуживания со стороны наладч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замкнутая СМО, где источниками заявок являются станки, имеющиеся в ограниченном количестве и подающие или не подающие заявки в зависимости от своего состоя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80F3D-2606-44C2-A09D-76E8F64732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По необходимости восстановления каналов обслуживания СМО делятся 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МО с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осстановление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ышедших из строя канал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МО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без восстановлени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шедших из строя кана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F2C50-96F3-459D-AAA2-DEDA535346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6840" y="549000"/>
            <a:ext cx="84358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3.1.2. Элементы СМ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Каналы обслуживания 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ементы СМО, функцией которых является обслуживание заявок. В каждый момент времени в канале может находиться только одна заяв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лятся 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Горяч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(начинают обслуживать заявку в момент ее поступления в канал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Холодны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(каналу для начала обслуживания требуется время на подготовку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D25C5-7A82-4FAD-A6F0-797E43116F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6840" y="907560"/>
            <a:ext cx="84358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ые задачи теории систем массового обслуживания (ТСМО) были рассмотрены сотрудником Копенгагенской телефонной компании, датским ученым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А.К. Эрлангом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1878-1929г) в период между 1908 и 1922г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и задачи были вызваны к жизни стремлением упорядочить работу телефонной сети и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разработать методы, позволяющие заранее повысить качество обслуживания потребителей в зависимости от числа используемых устройст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46DF7-3BBA-4651-908A-6EC6D0D206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95280" y="907560"/>
            <a:ext cx="8353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По числу каналов обслуживания различаю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ноканальные СМ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огоканальные СМ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E43A6-7F15-4394-A2BD-8DE575769C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1725480" y="2846520"/>
            <a:ext cx="5150160" cy="29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95280" y="907560"/>
            <a:ext cx="8353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По производительности каналов обслуживания выделяю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МО с каналами одинаковой производите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МО с каналами разной производи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1E0BF-1E65-4DF5-9B08-A5861086E6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По необходимости восстановления каналов обслужив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МО с восстановлением вышедших из строя канал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МО без восстановления вышедших из строя кана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053DF-8AEA-4787-9AF4-BDC5F6B35F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9640" y="692280"/>
            <a:ext cx="835344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Источники заяво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- порождают заявки в случайные моменты времени, согласно заданному пользователем статистическому закону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Заяв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входят в систему (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орождаются источниками заяво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, проходят через ее элементы (обслуживаются), покидают ее обслуженными или неудовлетворенными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93252-AEED-424C-AAAC-53B71CD8A2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95280" y="1052280"/>
            <a:ext cx="856944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явки образуют </a:t>
            </a: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пото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- поток заявок на входе системы, поток обслуженных заявок, поток отказанных заяв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ток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характеризуется количеством заявок, наблюдаемым в некотором месте СМО за единицу времени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час, сутки, месяц), то есть поток есть величина статистическ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4A69F-A7E8-4614-9C2F-C7E142C816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10920" y="1052280"/>
            <a:ext cx="806436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Очередь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 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овокупность требований, ожидающих обслужи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Дисциплина очеред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определяет принцип, в соответствии с которым поступающие на вход обслуживающей системы требования подключаются из очереди к процедуре обслуживания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C0FFF-0116-44AD-B592-A901E0E73A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Очеред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характеризую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илами стояния в очереди (дисциплиной обслуживания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ичеством мест в очереди (сколько заявок максимум может находиться в очереди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уктурой очереди (связь между местами в очереди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ывают 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ограниченн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и 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неограниченн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очереди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F4CFA-4610-403C-B62A-BE070B51B0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94920" y="476280"/>
            <a:ext cx="843588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Важнейшие дисциплины обслужи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FIFO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(First In, First Out - </a:t>
            </a: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первым пришел, первым ушел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: если заявка первой пришла в очередь, то она первой уйдет на обслуживание.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LIFO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(Last In, First Out - </a:t>
            </a: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последним пришел, первым ушел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: если заявка последней пришла в очередь, то она первой уйдет на обслуживание. Это правило называется «стеком» или «магазином» (пример - патроны в рожке автомата).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C55EA-3C9B-4F53-831E-F97AAA2C1C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DEC42-51F2-4571-B5CC-FCBC17797D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SF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(Short Forward -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короткие впере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: в первую очередь обслуживаются те заявки из очереди, которые имеют меньшее время обслужи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ило выбора в очереди может быть случайным (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and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можна также организация выбора из очереди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о параметрам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например, мужчины в очереди пропускают женщин вперед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26623-ACFD-4DAE-BB88-6326FB44E7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Пример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сть имеется два магази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агазине № 1 обслуживание осуществляется в порядке очереди, то есть здесь 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реализована дисциплина обслуживания FIFO (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ервым пришел, первым ушел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51323-728B-4441-B44C-FD1E2134B3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2268360" y="907920"/>
            <a:ext cx="417528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13308-A749-42CA-9CC5-A8856668C7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671400" y="1216080"/>
            <a:ext cx="793296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94920" y="620640"/>
            <a:ext cx="84978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ремя обслуживания  </a:t>
            </a: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1" lang="ru-RU" sz="2800" spc="-1" strike="noStrike" baseline="-25000">
                <a:solidFill>
                  <a:srgbClr val="0033cc"/>
                </a:solidFill>
                <a:latin typeface="Arial"/>
              </a:rPr>
              <a:t>обслуж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 показывает, сколько времени продавец затратит на обслуживание одного покупателя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нятно, что при покупке штучного товара продавец затратит меньше времени на обслуживание, чем при покупке, скажем, сыпучих продуктов, требующих дополнительных манипуляций (набрать, взвесить, высчитать цену и т. п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ремя ожидания   </a:t>
            </a: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1" lang="ru-RU" sz="2800" spc="-1" strike="noStrike" baseline="-25000">
                <a:solidFill>
                  <a:srgbClr val="0033cc"/>
                </a:solidFill>
                <a:latin typeface="Arial"/>
              </a:rPr>
              <a:t>ожи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показывает, через какое время очередной покупатель будет обслужен продавц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85A39-A702-4543-BCC5-1157D6F3D3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DAD3D-B0E0-4E83-BA9C-74DDD0DD84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68000" y="836640"/>
            <a:ext cx="8435880" cy="55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магазине № 2 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реализована дисциплина SF (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короткие вперед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означающая, что штучный товар можно купить вне очереди, так как время обслуживания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обслуж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акой покупки невелик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320760" y="2924280"/>
            <a:ext cx="8643960" cy="292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79D7D-5F14-4746-A5E4-5C3BBD8135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915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видно из обоих рисунков, последний (пятый) покупатель собирается приобрести штучный товар, поэтому время его обслуживания невелико - 0.5 мину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этот покупатель придет в магазин № 1, он будет вынужден выстоять в очереди целых 8 минут, в то время как в магазине № 2 его обслужат сразу же, вне очеред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им образом, среднее время обслуживания каждого из покупателей в магазине с дисциплиной обслуживания FIFO составит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4 мину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а в магазине с дисциплиной обслуживани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F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лишь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2.8 мину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EE0E7-4F47-4ACC-B4B1-6FAB2F0764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3.1.3. Классификация СМ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"/>
          <p:cNvPicPr/>
          <p:nvPr/>
        </p:nvPicPr>
        <p:blipFill>
          <a:blip r:embed="rId1"/>
          <a:stretch/>
        </p:blipFill>
        <p:spPr>
          <a:xfrm>
            <a:off x="847800" y="2232000"/>
            <a:ext cx="7469280" cy="278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A64A2-BB03-4921-A9B5-7BAD01F774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93200" y="836640"/>
            <a:ext cx="8372520" cy="55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О могут быть классифицированы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о признаку организации обслуживани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ющим образ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496880" y="2133720"/>
            <a:ext cx="6315120" cy="399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70D55-F684-4D5D-9048-2E9732992A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408720" cy="64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0D106-005B-4D21-8257-16E2CB54E2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"/>
          <p:cNvPicPr/>
          <p:nvPr/>
        </p:nvPicPr>
        <p:blipFill>
          <a:blip r:embed="rId1"/>
          <a:stretch/>
        </p:blipFill>
        <p:spPr>
          <a:xfrm>
            <a:off x="495360" y="907920"/>
            <a:ext cx="8180280" cy="505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Характеристики входного потока заявок и времени обслужи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D7C86-DE8B-4409-B5C9-14F8F025D2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704880" y="2133720"/>
            <a:ext cx="7734240" cy="34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DB34C-B698-4AFB-A4A6-55A8CFC17C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1"/>
          <a:stretch/>
        </p:blipFill>
        <p:spPr>
          <a:xfrm>
            <a:off x="755640" y="765000"/>
            <a:ext cx="7639200" cy="2267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"/>
          <p:cNvPicPr/>
          <p:nvPr/>
        </p:nvPicPr>
        <p:blipFill>
          <a:blip r:embed="rId2"/>
          <a:stretch/>
        </p:blipFill>
        <p:spPr>
          <a:xfrm>
            <a:off x="771480" y="3411360"/>
            <a:ext cx="765828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азалось, что ситуации, возникающие на телефонных станциях, являются типичными не только для телефонной связи. Работа аэродромов, морских и речных портов, магазинов, терминальных классов, электронных вычислительных комплексов, радиолокационных станций и т.д. может быть описана в рамках «Теории систем массового обслуживания» (ТСМ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2F3C-B3FE-48D4-A2CB-FE9EF853FA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97EE3-4DE2-4739-B9FD-BBDBA6A492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7829280" cy="1657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2"/>
          <a:stretch/>
        </p:blipFill>
        <p:spPr>
          <a:xfrm>
            <a:off x="614520" y="4005360"/>
            <a:ext cx="806760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B2B86-9650-4CB8-8364-9A93EDB4C8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315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FEF84-9BBA-4405-8EAD-0B2301FE32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533520" y="966960"/>
            <a:ext cx="8076960" cy="49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3400D-C8A4-4808-86C1-E105AD4DD9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776160" y="981000"/>
            <a:ext cx="75916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DC4B1-E7AC-4ACE-9A50-9C68E3282D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519120" y="1290600"/>
            <a:ext cx="810576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A402B-94AA-487D-B145-7BCBA2D7E3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601560" y="836640"/>
            <a:ext cx="77202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265D8-089A-40C5-9AB7-6F0E3444C9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804960" y="749160"/>
            <a:ext cx="7534080" cy="52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086AE-AA81-4187-AEED-02980C06CF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042920" y="3284640"/>
            <a:ext cx="7191360" cy="1266840"/>
          </a:xfrm>
          <a:prstGeom prst="rect">
            <a:avLst/>
          </a:prstGeom>
          <a:ln w="0">
            <a:noFill/>
          </a:ln>
        </p:spPr>
      </p:pic>
      <p:pic>
        <p:nvPicPr>
          <p:cNvPr id="143" name="Прямоугольник 1" descr=""/>
          <p:cNvPicPr/>
          <p:nvPr/>
        </p:nvPicPr>
        <p:blipFill>
          <a:blip r:embed="rId2"/>
          <a:stretch/>
        </p:blipFill>
        <p:spPr>
          <a:xfrm>
            <a:off x="396720" y="4925880"/>
            <a:ext cx="8350560" cy="9511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"/>
          <p:cNvPicPr/>
          <p:nvPr/>
        </p:nvPicPr>
        <p:blipFill>
          <a:blip r:embed="rId3"/>
          <a:stretch/>
        </p:blipFill>
        <p:spPr>
          <a:xfrm>
            <a:off x="939960" y="692280"/>
            <a:ext cx="744840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8A76C-D251-4E4D-AC3C-8CB787CBCB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1023840" y="549360"/>
            <a:ext cx="6553440" cy="13525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"/>
          <p:cNvPicPr/>
          <p:nvPr/>
        </p:nvPicPr>
        <p:blipFill>
          <a:blip r:embed="rId2"/>
          <a:stretch/>
        </p:blipFill>
        <p:spPr>
          <a:xfrm>
            <a:off x="2481120" y="2060640"/>
            <a:ext cx="4181760" cy="2047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"/>
          <p:cNvPicPr/>
          <p:nvPr/>
        </p:nvPicPr>
        <p:blipFill>
          <a:blip r:embed="rId3"/>
          <a:stretch/>
        </p:blipFill>
        <p:spPr>
          <a:xfrm>
            <a:off x="755640" y="4508640"/>
            <a:ext cx="7632720" cy="8413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"/>
          <p:cNvPicPr/>
          <p:nvPr/>
        </p:nvPicPr>
        <p:blipFill>
          <a:blip r:embed="rId4"/>
          <a:stretch/>
        </p:blipFill>
        <p:spPr>
          <a:xfrm>
            <a:off x="1187280" y="5661000"/>
            <a:ext cx="702324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1EC51-F21E-4EF8-8132-D154EF05AA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1547640" y="260280"/>
            <a:ext cx="5448600" cy="2905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785880" y="3141720"/>
            <a:ext cx="757224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Пример 1.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ефонная связь времен Эрланга представляла из себя телефонную станцию, связанную с большим числом абонентов. Телефонистки станции по мере поступления вызовов соединяли телефонные номера между соб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Задача: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е количество телефонисток (при условии их полной занятости) должно работать на станции для того, чтобы потери требований были минимальны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586F7-7141-4CCB-A16B-666C34A8FA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57200" y="691920"/>
            <a:ext cx="83628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Пример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реднее число вызовов, поступающих на АТС в 1 мин., равно 2.  Найти вероятность того, что за 5 минут поступ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2 вызов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менее двух вызов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не менее двух вызов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5FC32-2F69-42F4-B81F-1C6CE9538A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788184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Объект 2" descr=""/>
          <p:cNvPicPr/>
          <p:nvPr/>
        </p:nvPicPr>
        <p:blipFill>
          <a:blip r:embed="rId1"/>
          <a:stretch/>
        </p:blipFill>
        <p:spPr>
          <a:xfrm>
            <a:off x="324000" y="291960"/>
            <a:ext cx="8362800" cy="6016680"/>
          </a:xfrm>
          <a:prstGeom prst="rect">
            <a:avLst/>
          </a:prstGeom>
          <a:ln w="0">
            <a:noFill/>
          </a:ln>
        </p:spPr>
      </p:pic>
      <p:sp>
        <p:nvSpPr>
          <p:cNvPr id="15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FA6B1-221C-4E13-B5D5-A5A1FAF8F7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BE506-E692-4CFE-99F5-9E17CF21D1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757080" y="1989000"/>
            <a:ext cx="7629840" cy="20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DFB28-A5A6-4313-8D33-79A09EFF71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"/>
          <p:cNvPicPr/>
          <p:nvPr/>
        </p:nvPicPr>
        <p:blipFill>
          <a:blip r:embed="rId1"/>
          <a:stretch/>
        </p:blipFill>
        <p:spPr>
          <a:xfrm>
            <a:off x="1258920" y="1197000"/>
            <a:ext cx="6543720" cy="14191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"/>
          <p:cNvPicPr/>
          <p:nvPr/>
        </p:nvPicPr>
        <p:blipFill>
          <a:blip r:embed="rId2"/>
          <a:stretch/>
        </p:blipFill>
        <p:spPr>
          <a:xfrm>
            <a:off x="755640" y="3141720"/>
            <a:ext cx="788688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94CE5-5859-4EDD-9F38-45BB986D90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1328760" y="1504800"/>
            <a:ext cx="6486480" cy="38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5F3AE-A7F1-4A15-AD6E-87F1BFB826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1461960" y="1547640"/>
            <a:ext cx="6220080" cy="37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78D69-6AE5-4338-9359-56948AAF91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657360" y="1916280"/>
            <a:ext cx="782928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Классификация Башарина-Кендал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EECD5-028A-470D-AECB-3857DC47F3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1"/>
          <a:stretch/>
        </p:blipFill>
        <p:spPr>
          <a:xfrm>
            <a:off x="468360" y="1549440"/>
            <a:ext cx="8351640" cy="44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Объект 2" descr=""/>
          <p:cNvPicPr/>
          <p:nvPr/>
        </p:nvPicPr>
        <p:blipFill>
          <a:blip r:embed="rId1"/>
          <a:stretch/>
        </p:blipFill>
        <p:spPr>
          <a:xfrm>
            <a:off x="42840" y="360360"/>
            <a:ext cx="8991720" cy="6021360"/>
          </a:xfrm>
          <a:prstGeom prst="rect">
            <a:avLst/>
          </a:prstGeom>
          <a:ln w="0">
            <a:noFill/>
          </a:ln>
        </p:spPr>
      </p:pic>
      <p:sp>
        <p:nvSpPr>
          <p:cNvPr id="17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22655-C1D7-48C2-BA98-846C3B8793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D3716-17E8-4BFC-AB2B-37F056617E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788160" cy="520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Пример 2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Система скорой помощи некоего городского района представляет собой пункт (который принимает требования на выполнение). Имеет некоторое количество автомашин скорой помощи и несколько врачебных брига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Задача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пределить количество врачей, вспомогательного персонала, автомашин, для того чтобы время ожидания вызова было для больных оптимальным при условии минимизации затрат на эксплуатацию системы и максимизации качества обслужи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58B75-635E-4E6B-A461-78FAB8E7FD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9325A-EBAC-401B-9278-7150A4D31C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1190520" y="604800"/>
            <a:ext cx="6762960" cy="56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74447-FEF7-4525-899A-F63EDD7A15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858960" y="981000"/>
            <a:ext cx="75387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Пример 3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Система обработки информации содержит мультиплексный канал и несколько ЭВМ. Сигналы от датчиков поступают на мультиплексный канал, где буферизуются и предварительно обрабатываются. Затем поступают в ту ЭВМ, где очередь минималь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Задача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беспечить ускорение обработки сигналов при заданной суммарной длине очере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4E7A2-4538-4D0F-A5A1-124D91EF59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3.1.1. Основные понятия СМ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МО - математическая модель, созданная для изучения качества работы реальных систем, в которых реализуются последовательности однородных элементарных операций обслужи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B6BA8-A99E-41C4-B778-17A61AA0D4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истемы массового обслужива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- это такие системы, в которые в случайные моменты времени 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поступают заяв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входной поток) на обслуживание, при этом поступившие заявки обслуживаются с помощью имеющихся в распоряжении системы 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каналов обслужива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F49B4-3FB3-4555-8BE2-9D813CFFCB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17:10:22Z</dcterms:created>
  <dc:creator>Vadim Djenjer</dc:creator>
  <dc:description/>
  <dc:language>en-US</dc:language>
  <cp:lastModifiedBy>Каныгин</cp:lastModifiedBy>
  <dcterms:modified xsi:type="dcterms:W3CDTF">2021-01-16T19:06:04Z</dcterms:modified>
  <cp:revision>242</cp:revision>
  <dc:subject/>
  <dc:title>Введение в Matlab</dc:title>
</cp:coreProperties>
</file>