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32.wmf" ContentType="image/x-wmf"/>
  <Override PartName="/ppt/media/image12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7.png" ContentType="image/png"/>
  <Override PartName="/ppt/media/image35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4C3-F379-4912-AB32-D9519D95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759-F3D9-4205-AA6D-35C8BDC6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96F-F5BD-407E-819F-92041576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C42-67E2-4209-8B3E-BA4BAD5F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F78-7472-4E26-AEFC-D2487960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440-157E-4B55-919C-F3E1E04E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7E3-6F81-4178-AA0E-8B4092E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1F8-48DC-4427-B0A2-8E7E679F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C45-9150-41B7-AFB7-8A5086B1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D12-BC33-4044-AC5D-7C1F8A6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A85-194E-43B1-80EB-22D8187B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2F2-8CF4-4746-8AEC-AC1383F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FBAC-BCF5-4E5A-96A7-08DD391B4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тные характеристики во мног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ях можно снять эксперименталь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бъект устойчивый, на его вх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ется гармонический сигнал (3.5)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ывается сигнал            на вых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ис.3.5). Определив амплитуду и сдви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зы для разных частот, можно постро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очкам АФЧ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4"/>
              <p:cNvSpPr txBox="1"/>
              <p:nvPr/>
            </p:nvSpPr>
            <p:spPr>
              <a:xfrm>
                <a:off x="4788000" y="3203640"/>
                <a:ext cx="863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уравнения (3.8) следует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шая производная              ра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менной           минус сумма выход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ов интеграторов, умноженных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эффициент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получим структурную моде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ную на рис 3.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4894200" y="1087560"/>
                <a:ext cx="1224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3059280" y="1773360"/>
                <a:ext cx="936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2847960" y="3573360"/>
                <a:ext cx="29448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1044720" y="3789360"/>
                <a:ext cx="727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1835280" y="5157720"/>
            <a:ext cx="5878440" cy="4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86407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м обозн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уравнение       – го порядка (3.7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записать в вид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еренциальных уравнений перв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6948360" y="3486240"/>
                <a:ext cx="438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3924360" y="289080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1116000" y="1886040"/>
                <a:ext cx="69850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84360" y="1308240"/>
                <a:ext cx="8064360" cy="38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  <m:r>
                              <m:t xml:space="preserve">⋯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ная математическая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их процессов систе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дает рядом преимуществ и пер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ческими описаниями и пер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точными функц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 перв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руктурная модель 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сное и наглядное предст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нятию «состоянию систем»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вокупность сигналов на выход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нтеграто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 вторых однозначно опреде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руктура взаимодействий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еменными  в виде системы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братными связями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пределяют протекание динам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цес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Одновременно структу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 оказывают помощь п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ровании на аналоговых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фровых вычислительных маши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.2. Элементарные динамические зве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64072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следовании динамики сист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возможно сост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тематическое описание все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раз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ля облегчения этой зада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азбивают на отде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лемен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ля каждого из них составл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еренциальные уравнения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ывают на основе соответствующ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х зако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тображения динамических сво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ов системы независимо от 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ой природы используют поня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инамического зве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им звеном мо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ить элемент, совокуп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ов, систему в ц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ую динамическую систему мо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ожить на динамические элемент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арные динамические звенья. Упрощенно элементар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им звеном можно с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но с одним входом и одним выхо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ис.3.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69080" cy="222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3780000" y="4005360"/>
            <a:ext cx="165708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68659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1476360" y="2108160"/>
            <a:ext cx="640872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арное звено должно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ном направленного действия: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в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едает воздействие только в од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правлении – с входа на вых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ак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 состояния звена не влияет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предшествующего зв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ющего на вход. Поэтому п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иении системы на зве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ного действия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матема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писание каждого звена может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ставлено без учета связей его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другими звенья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еренциальные урав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ов имеют порядок не вы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го, поэтом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иповые звень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писываются дифференциаль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равнения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левого, первого и вто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ряд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ценивания пове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арного звена обычно на его в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ют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естовые сигна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определенной фор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иболее ча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ются такие виды возмущающ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тупенчатое воздейств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мпульсное воздейств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иодический 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1. Ступенчатое воздейств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с.3.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627280" y="1484280"/>
                <a:ext cx="3529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268360" y="2852640"/>
            <a:ext cx="5040360" cy="297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tretch/>
        </p:blipFill>
        <p:spPr>
          <a:xfrm>
            <a:off x="4140360" y="5751360"/>
            <a:ext cx="158400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ным случаем ступенчат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я является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едини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воздейств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описывается т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мой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единичной функцие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ункцией Хевисай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5076720" y="2997360"/>
                <a:ext cx="1908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1054080" y="3906720"/>
                <a:ext cx="674856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и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2. Импульсное воз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честве тестового сигнала можно,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е, использовать любой сигн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можно изучить реакц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на прямоугольный импуль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в том, чтобы определ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андартный вид эт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уль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ис.3.8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-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казаны три импуль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щие одинаковые площади.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ты будем считать, что эта п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а един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8209080" cy="21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3708360" y="5805360"/>
            <a:ext cx="149544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, если мы будем умень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ину импульса, сохраняя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щадь? Очевидно, что выс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ульса будет расти и в пределе (к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ина стремиться к нуль) 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конечной. Таким образом, 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ли еще один тестовый сиг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ельта - функцию Дира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3467160" y="5300640"/>
                <a:ext cx="24001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6407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ьта-функция тождественно ра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лю во всех точках, кром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0, где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миться к бесконечности.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идеаль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возможный в жизн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бесконечный импуль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 нарисовать,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а графике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изображается стрелкой, высота кот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равна единиц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м. рис.3.8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бъект неустойчив, то при под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ход синуса амплитуда колебаний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е будет неограниченно р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отметить, что         и едини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упенчатая функция           связ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нош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е свойство дельта –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ит в том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. она имеет единичную площ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5292720" y="549360"/>
                <a:ext cx="863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4859280" y="1125360"/>
                <a:ext cx="792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3328920" y="2205000"/>
                <a:ext cx="2487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3241800" y="4653000"/>
                <a:ext cx="26636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иодический сигн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ется либо в виде синусо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бо прямоугольной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6904080" cy="1266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1332000" y="4581360"/>
            <a:ext cx="688500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15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3.2.1. Виды типовых звеньев и их переходные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640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на вход системы вы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е ее выхода - перех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, именуемый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ереходной функци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еходная функц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ехо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арактеристи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ой переходной процесс на вых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на, возникающи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подаче на вх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ачкообразного воздействия при велич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качка, равного единиц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211640" y="3213000"/>
                <a:ext cx="936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этом предполагается, что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ьный момент находит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и покоя, то есть, имеет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уле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ачальные условия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424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мпульсная переходная функци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мпульсная характеристик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реакцию звена 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чную импульсную функцию (дель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ю) и обознач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ульсная характеристика, так же,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ереходная характеристи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определяется при нулевых нача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словиях, то есть, система долж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находиться в состоянии поко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940360" y="2708280"/>
                <a:ext cx="11350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08000" y="1805040"/>
            <a:ext cx="885672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е название импульсной характерис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есов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тим, что импульсная характери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ет не полную информацию о систем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кольку не учитывает ненулевые нач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тличие от ступенчатого сигна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гновенный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мпульс бесконечной величи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возможно получить на реальном устройст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снять импульсную характеристи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, строго говоря, не уд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ая модель, представл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иде линейных дифференциа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й является основой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ждения динамических характеристик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и с 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322200" y="1484280"/>
            <a:ext cx="87138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3.1.3. Структурные мо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ме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Найти импульсную переход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ю           по известной перех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звестно, что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продифференцировав исход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жение, пол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2411280" y="1197000"/>
                <a:ext cx="100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2266920" y="1812960"/>
                <a:ext cx="865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8"/>
              <p:cNvSpPr txBox="1"/>
              <p:nvPr/>
            </p:nvSpPr>
            <p:spPr>
              <a:xfrm>
                <a:off x="2063880" y="2565360"/>
                <a:ext cx="4657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,2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5234040" y="3551400"/>
                <a:ext cx="2349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2"/>
              <p:cNvSpPr txBox="1"/>
              <p:nvPr/>
            </p:nvSpPr>
            <p:spPr>
              <a:xfrm>
                <a:off x="2281320" y="5411880"/>
                <a:ext cx="46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4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2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) безынерционное зв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вено является простейшим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ет сигнал со входа на вых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гновенно, не изменяя его форму. Зв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только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усиливать или ослабл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начение входной велич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496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между входной велич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ыходной велич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ывается алгебраическим урав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звена определяются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параметром – передаточ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эффициентом 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который характериз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клон статической характер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611280" y="1195560"/>
                <a:ext cx="86508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6156360" y="1185840"/>
                <a:ext cx="865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8"/>
              <p:cNvSpPr txBox="1"/>
              <p:nvPr/>
            </p:nvSpPr>
            <p:spPr>
              <a:xfrm>
                <a:off x="2987640" y="2708280"/>
                <a:ext cx="25732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Рассмотрим рыча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вертикальная составляющая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ого конца         есть вхо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вертикальная составляющ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го конца       - выходная велич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80360" cy="1682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3274920" y="4149720"/>
                <a:ext cx="576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7"/>
              <p:cNvSpPr txBox="1"/>
              <p:nvPr/>
            </p:nvSpPr>
            <p:spPr>
              <a:xfrm>
                <a:off x="3419640" y="5307120"/>
                <a:ext cx="576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. данное звено является усилительным. Величина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бы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ьше единицы в зависимости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ношения плеч АО и 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2700360" y="1844640"/>
                <a:ext cx="3006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Δ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единичном ступенч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оженном в момент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ная величина измен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гновенно и принимает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ходная характеристика зв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вид (рис.3.9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3276720" y="1628640"/>
                <a:ext cx="2020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6948360" y="2198520"/>
                <a:ext cx="1224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8"/>
              <p:cNvSpPr txBox="1"/>
              <p:nvPr/>
            </p:nvSpPr>
            <p:spPr>
              <a:xfrm>
                <a:off x="7093080" y="3327480"/>
                <a:ext cx="5778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3348000" y="5300640"/>
                <a:ext cx="2502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995640" y="5045040"/>
            <a:ext cx="1944720" cy="544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51130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ульсная переходная характери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ульсная переходная функция з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а на рис.3.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3132000" y="2349360"/>
                <a:ext cx="24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3780000" y="4778280"/>
            <a:ext cx="2160360" cy="595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1908000" y="1022400"/>
            <a:ext cx="50403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сех точках, кроме нулев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            равно нулю; в ну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е            за бесконечно малое врем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«успевает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величиться 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конечности и вернуться в н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2556000" y="1676520"/>
                <a:ext cx="10080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797120" y="2276640"/>
                <a:ext cx="100800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отметить, что используем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ператор Лапла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тесную связь с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ператор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ифференцир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ейных дифференциальных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стоянными коэффициентами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левых начальных условия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точ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 обозначения оператор     соответств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ору       т.е.           Это положение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ительной степени упрощает процес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а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5580000" y="1049400"/>
                <a:ext cx="2087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j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4859280" y="1887480"/>
                <a:ext cx="10810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465880" y="4221000"/>
                <a:ext cx="474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0"/>
              <p:cNvSpPr txBox="1"/>
              <p:nvPr/>
            </p:nvSpPr>
            <p:spPr>
              <a:xfrm>
                <a:off x="2627280" y="4843440"/>
                <a:ext cx="5000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2"/>
              <p:cNvSpPr txBox="1"/>
              <p:nvPr/>
            </p:nvSpPr>
            <p:spPr>
              <a:xfrm>
                <a:off x="3995640" y="4854600"/>
                <a:ext cx="1111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внение звена в операторной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точная функция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2627280" y="1773360"/>
                <a:ext cx="3960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2700360" y="4102200"/>
                <a:ext cx="439272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49636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плитудно-фазовая частот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стика (АФЧХ) звена опис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ой на комплексно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ует одна точка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тельной оси (рис.3.1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765520" y="2637000"/>
                <a:ext cx="3108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3780000" y="4819680"/>
            <a:ext cx="2087280" cy="554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4897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плитудная частотная х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ФЧХ)                       представляет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ую, параллельную оси част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ис.3.1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2340000" y="1125360"/>
                <a:ext cx="18730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4211640" y="5734080"/>
            <a:ext cx="159084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7447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значает, что сигналы лю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ты проходят через безынерцио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но с одинаковым отнош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плитуд выходной и входной велич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м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зовая частотная х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ЧХ) (рис.3.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ывает, что безынерционное зв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оздает фазовых сдвигов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ной и выходной велич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042920" y="2349360"/>
                <a:ext cx="7096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3708360" y="4581360"/>
            <a:ext cx="2087640" cy="551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2"/>
          <a:stretch/>
        </p:blipFill>
        <p:spPr>
          <a:xfrm>
            <a:off x="1978200" y="1628640"/>
            <a:ext cx="48258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безынерционного зв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продуктом математичес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ализации. На самом деле в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ьные конструктивные облад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ой инерционность, так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 энергии со входа на выход 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осуществляться мгновен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б) апериодическое (инерционное)звено первого порядк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81327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) колебательное звено (инерционное звено второго порядка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4661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тим, что система имеет один вх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дин выход           и име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точную функцию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539640" y="1700280"/>
                <a:ext cx="7207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4284720" y="1700280"/>
                <a:ext cx="7920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1332000" y="3332160"/>
                <a:ext cx="66960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г) интегрирующее зве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188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) дифференцирующие звень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847000" cy="1654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206280" y="3429000"/>
            <a:ext cx="8829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е) звено чистого (транспортного) запаздывани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087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41360" y="1197000"/>
            <a:ext cx="83408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025800" cy="4125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871380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45960" y="1052640"/>
            <a:ext cx="86187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ем уравнение в оператор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, связывающее входные и выход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ы и соответствующие задан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точ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573120" y="3500280"/>
                <a:ext cx="8263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м уравнение (3.7) относ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ше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ной сигнал можно полу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ым интегриро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шей производн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3924360" y="1682640"/>
                <a:ext cx="492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468360" y="2290680"/>
                <a:ext cx="8280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[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⋯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p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4932360" y="4497480"/>
                <a:ext cx="12841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856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потребуется     последов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енных интеграторов, сигналы,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ах которых представляют со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ные от              д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ис.3.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003640" y="620640"/>
                <a:ext cx="43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3492360" y="2263680"/>
                <a:ext cx="1224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435640" y="2349360"/>
                <a:ext cx="1079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Picture 11" descr=""/>
          <p:cNvPicPr/>
          <p:nvPr/>
        </p:nvPicPr>
        <p:blipFill>
          <a:blip r:embed="rId1"/>
          <a:stretch/>
        </p:blipFill>
        <p:spPr>
          <a:xfrm>
            <a:off x="1187280" y="5229360"/>
            <a:ext cx="679932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396720" y="3933720"/>
            <a:ext cx="835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6:38:44Z</dcterms:created>
  <dc:creator>Каныгин</dc:creator>
  <dc:description/>
  <dc:language>en-US</dc:language>
  <cp:lastModifiedBy>Каныгин</cp:lastModifiedBy>
  <dcterms:modified xsi:type="dcterms:W3CDTF">2019-05-22T06:21:05Z</dcterms:modified>
  <cp:revision>50</cp:revision>
  <dc:subject/>
  <dc:title>Слайд 1</dc:title>
</cp:coreProperties>
</file>