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AC3-62AE-489D-999C-60CBB71E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2466-DC58-476D-B55F-B334930C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D1A-4A55-4EF5-896A-FCF9CB49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91F-93BA-4759-9F8F-8C6188AB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9D2C-26EC-4526-98FA-F52E011F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D9B-DAEA-4A33-A7AA-AB142232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938-3CC3-4C5B-A804-E70649C1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064-04F4-4918-8B51-4F4EEBAF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16DB-AFFC-4579-B00A-28E6C56D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F403-A5EB-4B1B-814B-56C13666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E3B-17FC-4E1F-9FAD-9CD0FC94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24D8-7F88-4981-AF2D-C55C18D6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8D8D-10A9-4386-ACA6-75543BC40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2.3.3. Дробный факторный эксперимент (ДФЭ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76360" y="765000"/>
            <a:ext cx="684072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072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данному плану мы можем определ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эффициент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ко коэффициенты                  буд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смешаны с парными  взаимодействия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значительном числе фактор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ение смешанности в ДФЭ яв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удоемким. Для нахождения, при ка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акторах и взаимодействиях оцен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эффициентов будут смешанными, вводи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контрас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932200" y="1763640"/>
                <a:ext cx="20001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638600" y="2496960"/>
                <a:ext cx="122400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аст получают умножением обеих ча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нератора плана вводимого дополните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актора        на этот факт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ример, поскольку для ДФЭ (табл.2.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нератор плана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 для контраста получ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.к.               окончательно имее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195640" y="1484280"/>
                <a:ext cx="431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564000" y="2997360"/>
                <a:ext cx="194472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419640" y="4221000"/>
                <a:ext cx="20872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346040" y="5148360"/>
                <a:ext cx="1008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570120" y="5661000"/>
                <a:ext cx="1793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ы определить, с какими факторам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аимодействиями смешана 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обходимо умножить обе части контраста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т факт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ример,  для        имее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.е.       оценивается одновременно       и       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исывается это та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659640" y="851040"/>
                <a:ext cx="749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678120" y="2459160"/>
                <a:ext cx="563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771640" y="3213000"/>
                <a:ext cx="33512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258920" y="4052880"/>
                <a:ext cx="376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588000" y="4105440"/>
                <a:ext cx="417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451640" y="4062240"/>
                <a:ext cx="568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419640" y="5300640"/>
                <a:ext cx="23047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де        - действительные зна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эффици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979640" y="549360"/>
                <a:ext cx="36147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08000" y="1700280"/>
                <a:ext cx="20098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63640" y="2593800"/>
                <a:ext cx="37306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860480" y="3730680"/>
                <a:ext cx="202248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→</m:t>
                    </m:r>
                    <m:r>
                      <m:t xml:space="preserve">β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763640" y="4724280"/>
                <a:ext cx="408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319720" y="5205240"/>
                <a:ext cx="550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В зависимости от числа факторов, входящ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в контраст, говорят о разрешающ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пособности ДФ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Так, если для ДФЭ            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честве генератора плана выбран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контраст соответственно будет                       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 говорят, что у такого эксперимен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ешающая способность равна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7072200" y="1484280"/>
                <a:ext cx="790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74920" y="2781360"/>
                <a:ext cx="21607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027840" y="3602160"/>
                <a:ext cx="20160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генератор                   и контра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 разрешающая способность равна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нераторы плана с наибольш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ешающей способностью наз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главны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отдают им предпочт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89320" y="1192320"/>
                <a:ext cx="15127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987640" y="1989000"/>
                <a:ext cx="21049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35164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огично могут быть постро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реплики при более высокой размер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акторного простран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, для четырех параметров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ФЭ       возможны следующие взаимодействия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132000" y="2852640"/>
                <a:ext cx="25923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763640" y="4456080"/>
                <a:ext cx="6221520" cy="14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370160" y="3645000"/>
                <a:ext cx="5378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Ф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соответственно, потребует пр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спери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им матрицу для ДФЭ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сперимент предполагает изучение 4 фактор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ин из которых будет замещать взаимо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жду другими параметр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ешение эксперимента составляет 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имальное количество опытов рассчитыва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же представлена матрица эксперимен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443640" y="1511280"/>
                <a:ext cx="7873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042920" y="4573440"/>
                <a:ext cx="15508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101080" y="5105520"/>
                <a:ext cx="6714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25600" y="1028880"/>
                <a:ext cx="12254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63600" y="1333440"/>
            <a:ext cx="8418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ные факторные эксперимен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дают одним значитель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достатком –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количество опы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тремительно растет с увеличением чис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зучаемых параметр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Такие планы в 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ли иной степени могут огранич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следования. Кроме того, кол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ытов зачастую прямо пропорциональ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имости экспери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ведем параметр        вмес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заимодействия                  Зна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ктора          в каждом опыте буд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числяться произведением факторо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427640" y="1384200"/>
                <a:ext cx="531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924360" y="2060640"/>
                <a:ext cx="13762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411280" y="2565360"/>
                <a:ext cx="5320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22360" y="3745080"/>
                <a:ext cx="1079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95640" y="3735360"/>
                <a:ext cx="7347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72880" y="1728720"/>
            <a:ext cx="859968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4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как параметр        приравнивается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заимодействию трех других факто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.е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е считается самостоятельны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араметром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се взаимодействия с 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участием исключаю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Таким образ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заимодейств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изучаются в ходе экспери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408560" y="606600"/>
                <a:ext cx="531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66560" y="4408560"/>
                <a:ext cx="82090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Можно было бы предположить, что подоб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исключение членов матрицы значи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кажется на точности результатов эксперимент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яде случаев взаимодействия меж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метрами действительно влияют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аемую систему и поэтому не могут бы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ключены из эксперимента. Но, в остальн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небрежение взаимодействиями выше 2-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ядка, а иногда и взаимодействиями 2-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ядка,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оправдано как минимум с точки з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количества опытов и стоимости их пр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362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а ниже приводит данные о минималь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ичестве опытов, необходимом для реал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спериментов типа         в зависимости от коли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метр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-181080" y="2997360"/>
          <a:ext cx="9288720" cy="302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2997360"/>
                    <a:ext cx="928872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621240" y="1407960"/>
                <a:ext cx="4791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ы сократить количество экспери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няют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дробные факторные пла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Дробным факторным эксперимент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ывается система эксперимен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ляющих собой часть ПФЭ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воляющая рассчитывать коэффицие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равнения регрессии и сократить объ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спериментальных данных. Та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сперименты обладают меньш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ормативностью, но позволяют значи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кратить их количе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 построения дробных фактор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ов легче продемонстрировать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кретных приме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ишем еще раз матрицу план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ФЭ        (см. табл.2.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476360" y="2354400"/>
                <a:ext cx="5475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1" name=""/>
          <p:cNvGraphicFramePr/>
          <p:nvPr/>
        </p:nvGraphicFramePr>
        <p:xfrm>
          <a:off x="-108000" y="3716280"/>
          <a:ext cx="9793440" cy="232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000" y="3716280"/>
                    <a:ext cx="979344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156360" y="3213000"/>
            <a:ext cx="172404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ьзуясь таким планированием, 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числить четыре коэффициент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ить результаты эксперимента в ви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полного квадратного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имеются основания считать, что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нных интервалах варьирования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ет быть описан линейной моделью, 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статочно определить три коэффициента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547640" y="2708280"/>
                <a:ext cx="5328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11280" y="5560920"/>
                <a:ext cx="9363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070000" y="5545080"/>
                <a:ext cx="627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ается одна степень свободы. Употреб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е для минимизации числа опытов. П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нейном приближении эфф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аимодействия                   стремиться к нулю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ктор-столбец             можно использовать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вого факт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равняем этот фактор взаимодейств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трица планирования запишется в ви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бл.2.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421080" y="1989000"/>
                <a:ext cx="15112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419640" y="2492280"/>
                <a:ext cx="7189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62320" y="2997360"/>
                <a:ext cx="60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348000" y="4195800"/>
                <a:ext cx="18432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4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енный план содержит половину опы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ФЭ и носит название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полуреплико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пол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факторного эксперимен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обознач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нное для дополнительного факт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линейное произведение назы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генератор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лана (поскольку опреде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дополнительного фактора прави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едования уровней в ДФЭ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140360" y="2411280"/>
                <a:ext cx="10080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 ПФЭ     представлен кубом с восемью узлами (точками плана), а возможные планы ДФЭ         – проекциями этого куба на три плоскости (см. рис). То есть из восьми узлов выбираются четыре. Из куба можно также выбрать четыре точки из восьми, не лежащие в одной плоскости, и сформировать план ДФЭ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463920" y="860400"/>
                <a:ext cx="4874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373720" y="1843200"/>
                <a:ext cx="7920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703840" y="4703760"/>
                <a:ext cx="9050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7:39:33Z</dcterms:created>
  <dc:creator>Каныгин</dc:creator>
  <dc:description/>
  <dc:language>en-US</dc:language>
  <cp:lastModifiedBy>Каныгин</cp:lastModifiedBy>
  <dcterms:modified xsi:type="dcterms:W3CDTF">2012-11-06T16:45:24Z</dcterms:modified>
  <cp:revision>21</cp:revision>
  <dc:subject/>
  <dc:title>2.3.2. Дробный факторный эксперимент (ДФЭ)</dc:title>
</cp:coreProperties>
</file>