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579-75DB-4C39-9D05-917014D1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F17-4902-4BD7-9D4B-15619BB3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A3C-7718-409D-A44E-64B0FE6A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7AE-3EFA-4224-8AD2-C26095C9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990-8E46-401C-927F-C3031BD7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5BC-EA62-4C96-9CE5-DD038AB3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1BB-38A0-4840-AC86-1D5C883D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323-4A85-43F2-A2D7-43837A7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4E5-F0E7-4D9B-A355-FD32F89C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D0B-2CDC-4B96-931B-CDAC28CA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9EC-70AD-42A4-8976-75E8FF9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91A-5A66-49F2-8DE5-45E2774E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DDE9-5012-4123-ACB2-1BF72EBE4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7859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3.2. Математические модели реализаций сигналов в систем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 не всегда является следствием действия поме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процессе квантования по уровн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щие при этом ошибки округления называ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ами квант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отрим процесс квант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монического сигнала        . Пусть результат е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нтования            Возникший при этом шу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шума лежат в следующих предел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   — шаг квант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отметить, что в реальных АЦП п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нтовании может использоваться усечение, то е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гление в сторону меньшего зна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3995640" y="2079720"/>
                <a:ext cx="5050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2349360" y="2363760"/>
                <a:ext cx="72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9"/>
              <p:cNvSpPr txBox="1"/>
              <p:nvPr/>
            </p:nvSpPr>
            <p:spPr>
              <a:xfrm>
                <a:off x="2916360" y="2852640"/>
                <a:ext cx="2506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420840" y="4076640"/>
                <a:ext cx="1822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3132000" y="4292640"/>
                <a:ext cx="270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4.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сигн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висимости от того, известен ли на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гнал точно, различ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терминирован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случайные сигна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етерминированный сигн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ен – его значение в любой момен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 можно определить точ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лучайный сигна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любой мо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 представляет собой случайну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чину, которая принимает конкрет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с некоторой вероят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Математические модели сигнал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Гармонический сигнал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остью определяетс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мя числовыми характеристиками: амплитудой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отой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ω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начальной фазой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самом общем ви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армонический сигнал характеризуется формуло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Периодический сигна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иод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роизвольное целое числ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2700360" y="2852640"/>
                <a:ext cx="3306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2627280" y="4221000"/>
                <a:ext cx="25923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игналы конечной длительности (финитные сигналы)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сигналы отличны от нуля только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ом промежутке време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ую роль среди сигналов ограниче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ости играют импульсные сигн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ом сигнала конечной длительности мож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ть дельта-функция                функция Дира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щая собой бесконечно узкий импульс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конечной амплитудой, расположенной при нуле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и аргумента функ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4361040" y="3813120"/>
                <a:ext cx="792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гнал в виде дельта-функции невозмож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овать физически, но эта функция очень важ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еоретического анализа сигналов и сист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3640" y="1125360"/>
                <a:ext cx="2520720" cy="10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3635280" y="2708280"/>
                <a:ext cx="20163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игнал с ограниченной полосой частот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им понимается сигнал, имеющ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й, то есть ограниченный по часто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кт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диапазон частот, к которым чувствител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х человека находится в диапазоне 16 Гц д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-30 Кг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46814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игналы с интегрируемом квадра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называются ещё сигналами с ограниченной энерги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аких сигналов выполняется соотноше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ждение названия связано с тем, что 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напряжение, то интеграл представляет соб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ю, выделенную сигна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единичн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ротивл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3203640" y="1628640"/>
                <a:ext cx="22320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К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елый шу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стационарный случайный процесс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ктральные составляющие которого равномер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ы по всему диапазону задействова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и технике «чисто» белый шум 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ается, однако под категорию белых шум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дают любые шумы, спектральная плотность котор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а (или слабо отличается) в рассматриваем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пазоне част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2987640" y="2278080"/>
                <a:ext cx="2735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8101080" y="628560"/>
                <a:ext cx="720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0.5. Модулированные сигн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773360"/>
            <a:ext cx="842472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виды модуляции –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мплитудная, частотная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фазовая и импульс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системах передачи информации т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 получила распространение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вадратурная мод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оторой одновременно изменяются амплитуд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за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мплитудная модуляц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плитуда несу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ы изменяется в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309760" y="5229360"/>
                <a:ext cx="4378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одержимое 2"/>
          <p:cNvSpPr/>
          <p:nvPr/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мплит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част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чальная ф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азовая модуля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ередаваемы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тся фазой несущего колеб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астотная модуляция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ается в ген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ущего колеб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2249640" y="1106640"/>
                <a:ext cx="338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2411280" y="5229360"/>
                <a:ext cx="42069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2340000" y="3500280"/>
                <a:ext cx="4114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Ф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220840" y="1359000"/>
                <a:ext cx="4795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2220840" y="1755720"/>
                <a:ext cx="446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нятие сигн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гн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физический процесс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щий в себе некотор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актике чаще всего использую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лектрические сигна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ри эт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ем информации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яющиеся во времени ток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яжение в электрической цеп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одуляция импульсная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дуля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ебаний, при которой модулирующ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 представляет собой периодическ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сравнительно узк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пульс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мпульсная, амплитудная, частотная и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фазовая модуля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Все колеб"/>
          <p:cNvPicPr/>
          <p:nvPr/>
        </p:nvPicPr>
        <p:blipFill>
          <a:blip r:embed="rId1"/>
          <a:stretch/>
        </p:blipFill>
        <p:spPr>
          <a:xfrm>
            <a:off x="1187280" y="765000"/>
            <a:ext cx="71298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вни громкости различных шу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43040" y="2714760"/>
          <a:ext cx="6095880" cy="3403440"/>
        </p:xfrm>
        <a:graphic>
          <a:graphicData uri="http://schemas.openxmlformats.org/drawingml/2006/table">
            <a:tbl>
              <a:tblPr/>
              <a:tblGrid>
                <a:gridCol w="3071880"/>
                <a:gridCol w="302400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ел чувствительности человеческого ух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д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лест листьев, дых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—20 д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глушенная реч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—40 д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говорная реч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—60 д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бытие / отправление поезда в метр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—85 дБА / 84—94 д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оцикл, дискотека, отбойный молоток, бурные аплодисменты, бензопи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—110 д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вой поро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—130 д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5"/>
          <p:cNvSpPr/>
          <p:nvPr/>
        </p:nvSpPr>
        <p:spPr>
          <a:xfrm>
            <a:off x="428760" y="178596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БА - акустический децибел, единица измерения уровня шума с учетом восприятия звука челове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3" descr="dba.jpg"/>
          <p:cNvPicPr/>
          <p:nvPr/>
        </p:nvPicPr>
        <p:blipFill>
          <a:blip r:embed="rId1"/>
          <a:stretch/>
        </p:blipFill>
        <p:spPr>
          <a:xfrm>
            <a:off x="1714680" y="214200"/>
            <a:ext cx="61261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ставление сигн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4920" y="1599840"/>
            <a:ext cx="5962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деляют аналогов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искретные, квантованные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ифровые сигна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Аналоговый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зменя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ерывно во времени и мож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имать любые значения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ом интерва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оговые сигнал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ываются некотор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ой функци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Аналоговый сигнал"/>
          <p:cNvPicPr/>
          <p:nvPr/>
        </p:nvPicPr>
        <p:blipFill>
          <a:blip r:embed="rId1"/>
          <a:stretch/>
        </p:blipFill>
        <p:spPr>
          <a:xfrm>
            <a:off x="6156360" y="3213000"/>
            <a:ext cx="2570040" cy="1160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227640" y="4653000"/>
            <a:ext cx="24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овый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562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Дискретизация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огового сигнала состоит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м, что сигнал представляется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е последовательн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начений, взятых в дискретны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менты времени </a:t>
            </a:r>
            <a:r>
              <a:rPr b="0" i="1" lang="ru-RU" sz="2600" spc="-1" strike="noStrike">
                <a:solidFill>
                  <a:srgbClr val="0000ff"/>
                </a:solidFill>
                <a:latin typeface="Arial"/>
              </a:rPr>
              <a:t>Δ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торы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интервалом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олагается, что в те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вал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Δt уровень сигн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яется незначительно 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жет считаться постоянны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Дискретный сигнал"/>
          <p:cNvPicPr/>
          <p:nvPr/>
        </p:nvPicPr>
        <p:blipFill>
          <a:blip r:embed="rId1"/>
          <a:stretch/>
        </p:blipFill>
        <p:spPr>
          <a:xfrm>
            <a:off x="6300720" y="2276640"/>
            <a:ext cx="2448000" cy="1347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6443640" y="38606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ретный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85480" y="428400"/>
            <a:ext cx="607212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вантов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я обла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й сигнала разбивается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и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тояния между эти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ровнями называется шаг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вантования  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Число эт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ей равно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т 0 до N-1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му уровню присваивае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ое числ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четы сигнала сравн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ровнями квантования и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 сигнала выбирае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, соответствующе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ому уровню квант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Квантованный сигнал"/>
          <p:cNvPicPr/>
          <p:nvPr/>
        </p:nvPicPr>
        <p:blipFill>
          <a:blip r:embed="rId1"/>
          <a:stretch/>
        </p:blipFill>
        <p:spPr>
          <a:xfrm>
            <a:off x="6215040" y="714240"/>
            <a:ext cx="2671920" cy="1670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6590880" y="270828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нтованый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уровень квантования кодируе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ичным числом с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ряд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уровней квантования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числ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ядов n двоичный чисел, кодирующих э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и, связаны соотношением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n ≥ log</a:t>
            </a:r>
            <a:r>
              <a:rPr b="0" lang="ru-RU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5627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того чтобы представи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аналог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гна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ю чис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чной разрядности, 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ледует сначала превратить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искретный сигнал, а зат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двергнуть квантованию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сигнал буд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ен таким образом, ч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аждом задан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ежутке времени извест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ближённое (квантованно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сигнала, котор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записать целым числом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Цифровой сигнал"/>
          <p:cNvPicPr/>
          <p:nvPr/>
        </p:nvPicPr>
        <p:blipFill>
          <a:blip r:embed="rId1"/>
          <a:stretch/>
        </p:blipFill>
        <p:spPr>
          <a:xfrm>
            <a:off x="6372360" y="2205000"/>
            <a:ext cx="2320920" cy="1454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6588000" y="4076640"/>
            <a:ext cx="19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ово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писать эти целые числа в двоич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исте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лучится последовательность ну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единиц, которая и будет являть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цифровы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игналом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3.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ех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600200"/>
            <a:ext cx="8820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Помех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нежелательное физическо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ение или воздействие электрических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нитных или электромагнитных поле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х токов или напряжений внешн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нутреннего источника, которое наруш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ую работу технических средств,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ет ухудшение техническ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 и параметров этих сред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Ш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беспорядочные колебания различ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ой природы, отличающие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ю временной и спектральной струк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9:26:55Z</dcterms:created>
  <dc:creator>reka</dc:creator>
  <dc:description/>
  <dc:language>en-US</dc:language>
  <cp:lastModifiedBy>Каныгин</cp:lastModifiedBy>
  <dcterms:modified xsi:type="dcterms:W3CDTF">2021-01-09T08:13:37Z</dcterms:modified>
  <cp:revision>73</cp:revision>
  <dc:subject/>
  <dc:title>Математические модели реализаций сигналов в системах</dc:title>
</cp:coreProperties>
</file>