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DA3-FD16-429B-A7F6-8192838D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343-44D8-4596-B290-FC4A99CA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8BF-6C2C-40A2-B258-3BC32E7F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5FD-833C-4193-B2CE-2B42941D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3B0-D864-4A9F-9D33-39E0D05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629-BB2F-4BDC-B666-D260F8F6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ACCD-7645-4E0A-9C49-C589236D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B48-852F-4CC7-BF22-2935F1DB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5C0-6D38-4EB0-B5EB-8D7782B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959-F3E6-4EF1-90B1-141C58F0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418-D3DD-4CEE-8F96-CBD9D49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FE2-7C72-42B2-9695-7C80AE9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7C87-25F0-4DF9-9AE2-276C6ABFB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.3.2. Статистическая обработка результатов ПФ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кодированное значени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 эксперименте (строке) ма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дированное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м эксперименте (стро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ы пл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дированное значени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 эксперименте (стро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ы п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826920" y="1557360"/>
                <a:ext cx="1008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755640" y="3076560"/>
                <a:ext cx="1150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24000" y="4638600"/>
                <a:ext cx="151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ыполняется проверка знач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ов уравнения ре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полнения проверки ну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доверительный интер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ющий доверительной вероя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из коэффи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6804000" y="2924280"/>
                <a:ext cx="641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539640" y="3951360"/>
                <a:ext cx="628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468360" y="4468680"/>
                <a:ext cx="2976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u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эффициент, рассчитанный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.2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озможная ошибка, возникающа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ы истинного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а его оце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763640" y="1413000"/>
                <a:ext cx="5781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Δb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Δ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755640" y="3213000"/>
                <a:ext cx="525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8"/>
              <p:cNvSpPr txBox="1"/>
              <p:nvPr/>
            </p:nvSpPr>
            <p:spPr>
              <a:xfrm>
                <a:off x="539640" y="4365720"/>
                <a:ext cx="647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а  полагается одинаковой для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бличное значение крит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ьюдента при довери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и          и числе степе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ы                           с котор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лась диспер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398680" y="1663560"/>
                <a:ext cx="35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00000" y="3068640"/>
                <a:ext cx="433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3981600" y="4248000"/>
                <a:ext cx="431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3552840" y="4724280"/>
                <a:ext cx="17510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5987880" y="5129280"/>
                <a:ext cx="924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(его расчетное зна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м, если построенный довери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ал не содержит т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м случае это равносильно усло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3924360" y="2692440"/>
                <a:ext cx="9907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3708360" y="3860640"/>
                <a:ext cx="1616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Δ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тервал         содержит т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, что, то же са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коэффициент          с доверите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ю        не значим, так как отл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нуля он мог оказаться за счет погреш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3635280" y="765000"/>
                <a:ext cx="48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3492360" y="1324080"/>
                <a:ext cx="9907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3419640" y="2516040"/>
                <a:ext cx="14619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Δb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3564000" y="3357720"/>
                <a:ext cx="455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3059280" y="3960720"/>
                <a:ext cx="431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Принимая во внимание только знач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, записывается поли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а (2.1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ет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оверка адекв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од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елается заключение о 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дности для практики. Для эт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ачале подсчитывается диспер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ая ошибку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ность между рассчитанным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ой модел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м значениям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ке (эксперимент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619280" y="1246320"/>
                <a:ext cx="59770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теор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826920" y="3649680"/>
                <a:ext cx="576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начение отклика по постро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 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й строке  (эксперимент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сло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сло экспериментальных т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личество значимых коэффи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 в уравнении регрессии, кро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900000" y="404640"/>
                <a:ext cx="863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7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809640" y="2133720"/>
                <a:ext cx="21225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1042920" y="37180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1042920" y="4776840"/>
                <a:ext cx="432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427640" y="5661000"/>
                <a:ext cx="635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определяется расчетное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я Фиш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ритерием Фишера связанны степ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числ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намен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268360" y="1844640"/>
                <a:ext cx="42768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4067280" y="4221000"/>
                <a:ext cx="2374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4311720" y="5229360"/>
                <a:ext cx="2251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им, что общий вид план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        параллельных экспери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ны в табл.2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2703600" y="1106640"/>
                <a:ext cx="442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" name="Object 9"/>
          <p:cNvGraphicFramePr/>
          <p:nvPr/>
        </p:nvGraphicFramePr>
        <p:xfrm>
          <a:off x="-1655640" y="3141720"/>
          <a:ext cx="12420360" cy="28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55640" y="3141720"/>
                    <a:ext cx="124203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1581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тся усло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бличное (критическое)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я Фишера, найденное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ной доверительной веро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числе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словие (2.28)  выполняется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на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одель адекват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периме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340000" y="1268280"/>
                <a:ext cx="45133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абл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826920" y="2508120"/>
                <a:ext cx="9352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аб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8388360" y="3645000"/>
                <a:ext cx="5032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0"/>
              <p:cNvSpPr txBox="1"/>
              <p:nvPr/>
            </p:nvSpPr>
            <p:spPr>
              <a:xfrm>
                <a:off x="6877080" y="4076640"/>
                <a:ext cx="1709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евыполнении условия (2.28)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од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адекват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льзоваться на практике 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лучшего понимания алгорит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ой обработки ниже рассмотр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сследования выходного пар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ческого процесса при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 был спланирован ПФЭ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о три серии паралл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ов. Использовались следу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нулевых уровн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эксперимента представлен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.2.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164360" y="2085840"/>
                <a:ext cx="477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1309680" y="4508640"/>
                <a:ext cx="62866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,8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7093080" y="1844640"/>
            <a:ext cx="1704960" cy="3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2"/>
          <a:stretch/>
        </p:blipFill>
        <p:spPr>
          <a:xfrm>
            <a:off x="243000" y="2428920"/>
            <a:ext cx="8658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уется построить модель, описывающ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ной параметр технологиче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а, проверить ее адеква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 проводится при двух зна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92360" y="3357720"/>
                <a:ext cx="6048360" cy="26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,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,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легчения расчетов удобно пров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ировку факторов с помощ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389320" y="2852640"/>
                <a:ext cx="527832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,8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ам (2.18) и (2.19) посчитыва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е значение и дисперсии в каж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е матр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476360" y="2852640"/>
                <a:ext cx="6480360" cy="22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расчета величин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сены в табл.2.6. Применяя кри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хрена, нетрудно убедиться, что опы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оизводимы, т.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(2.22) находим дисп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оизводимости опы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940360" y="189000"/>
                <a:ext cx="4525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6924600" y="333360"/>
                <a:ext cx="79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3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2411280" y="4976640"/>
                <a:ext cx="476424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2" descr=""/>
          <p:cNvPicPr/>
          <p:nvPr/>
        </p:nvPicPr>
        <p:blipFill>
          <a:blip r:embed="rId1"/>
          <a:stretch/>
        </p:blipFill>
        <p:spPr>
          <a:xfrm>
            <a:off x="1903320" y="2719440"/>
            <a:ext cx="5045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формулы (2.23) определ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 уравнения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2101680"/>
                <a:ext cx="7489800" cy="341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м значимость коэффициентов.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ам распределения критерия Стьюд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                   и числе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м            по формуле (2.2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19280" y="1862280"/>
                <a:ext cx="1368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2195640" y="2305080"/>
                <a:ext cx="16142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2340000" y="4195800"/>
                <a:ext cx="48672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,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3132000" y="3336840"/>
                <a:ext cx="576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567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последов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ой обработки и провер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ости построен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тся среднее значение 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               отклика в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е  (строке) по формул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6905520" y="2819520"/>
                <a:ext cx="544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87800" y="3519360"/>
                <a:ext cx="936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выполняются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коэффициенты                 значимы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          незначим, так как для н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ыпол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132000" y="1413000"/>
                <a:ext cx="283860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&gt;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&gt;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&gt;</m:t>
                        </m:r>
                        <m:r>
                          <m:t xml:space="preserve">Δ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3708360" y="3236760"/>
                <a:ext cx="1368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8"/>
              <p:cNvSpPr txBox="1"/>
              <p:nvPr/>
            </p:nvSpPr>
            <p:spPr>
              <a:xfrm>
                <a:off x="3132000" y="3699000"/>
                <a:ext cx="505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0"/>
              <p:cNvSpPr txBox="1"/>
              <p:nvPr/>
            </p:nvSpPr>
            <p:spPr>
              <a:xfrm>
                <a:off x="3132000" y="4653000"/>
                <a:ext cx="3024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Δ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ейная модель запишется в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м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декватность этой мод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е (2.26) подсчитаем дисперс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ую ошибку модели.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я значений                используемых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е (2.26), в записанную модель (2.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тавляем кодированные значения факт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матрице плана (табл.2.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268360" y="1514520"/>
                <a:ext cx="471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4284720" y="4078440"/>
                <a:ext cx="1076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для первого эксперимента (строки) матрицы име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ично находи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формулу (2.26) определя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ю, характеризующую ошибку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058840" y="1940040"/>
                <a:ext cx="5034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1835280" y="3387600"/>
                <a:ext cx="5976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611280" y="1179360"/>
                <a:ext cx="7993080" cy="34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теор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ное значение критерия Фиш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м по выражению (2.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аблице критерия Фишера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рительной вероятности                    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м числа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                                          наход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203560" y="1700280"/>
                <a:ext cx="47448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580000" y="3720960"/>
                <a:ext cx="1297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2398680" y="4941720"/>
                <a:ext cx="4273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1168560" y="5734080"/>
                <a:ext cx="3495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2"/>
              <p:cNvSpPr txBox="1"/>
              <p:nvPr/>
            </p:nvSpPr>
            <p:spPr>
              <a:xfrm>
                <a:off x="6597720" y="5737320"/>
                <a:ext cx="1525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,8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услови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1,6&lt;5,32)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 линей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вида (2.30) адекватна результа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 и ею можно пользовать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к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им переход к размер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ному, используя соотношение (2.29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нулевых уровней и интерв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ьирования факторами         и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6211800" y="4653000"/>
                <a:ext cx="736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5003640" y="4654440"/>
                <a:ext cx="501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етодика использования полного фактор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а показана на прим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полнения лабораторной работы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1008000" y="2103480"/>
                <a:ext cx="7093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       - значение отклика в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 экспери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роке)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й серии экспери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сло параллельных 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2981160" y="907920"/>
                <a:ext cx="37515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411280" y="2565360"/>
                <a:ext cx="43214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1389240" y="4024440"/>
                <a:ext cx="633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Rectangle 11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1476360" y="5345280"/>
                <a:ext cx="331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ыполняется проверка однород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й и воспроизводимости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             Для этого опреде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ное значение критерия Кохрена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ритерием            связаны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ы: для числител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наменател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3397320" y="1395360"/>
                <a:ext cx="10303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7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411280" y="2752560"/>
                <a:ext cx="429264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с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3203640" y="4508640"/>
                <a:ext cx="792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с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5148360" y="5013360"/>
                <a:ext cx="1490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3995640" y="5516640"/>
                <a:ext cx="10224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тся усло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        критическое (табличное) зна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я Кохрена, найденное для зада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рительной вероятности        при чис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ей своб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002040" y="1878120"/>
                <a:ext cx="2793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сч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403280" y="26463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435640" y="3700440"/>
                <a:ext cx="431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3780000" y="4100400"/>
                <a:ext cx="1095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40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словие (2.21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полня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исперсии однород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статис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продолжается.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Есл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полняется, то дисперсии неоднородн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верка дала отрицательный результ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следует повторить эксперимент увелич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параллельных опытов и, по возмож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сить точность измерений при их выполн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пределяется оценка дисперсии воспроизводимости экспери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ей связано число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дисперсия показывает, насколько хорош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роизводятся значения отклика в случа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и нескольких опытов при неиз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х факторов, иначе, точ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916360" y="1401840"/>
                <a:ext cx="29160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3276720" y="3359160"/>
                <a:ext cx="2062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Определяются коэффициенты уравнения ре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3635280" y="1413000"/>
                <a:ext cx="3686400" cy="49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lu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7:58:45Z</dcterms:created>
  <dc:creator>Каныгин</dc:creator>
  <dc:description/>
  <dc:language>en-US</dc:language>
  <cp:lastModifiedBy>Каныгин</cp:lastModifiedBy>
  <dcterms:modified xsi:type="dcterms:W3CDTF">2019-03-12T18:01:56Z</dcterms:modified>
  <cp:revision>30</cp:revision>
  <dc:subject/>
  <dc:title>Статистическая обработка результатов ПФЭ</dc:title>
</cp:coreProperties>
</file>