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227-4EF1-4256-867B-2644F257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A71-A0C9-434C-A905-3EBDF58C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D5E-2B94-4DD7-BDF7-82010309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1062-3A4D-4CF5-A79F-4986CECB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B68-B4A5-43FA-A11E-6E6D6B6D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3B1-7E14-49BF-AE41-F3954082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261-8AD6-461A-857B-3980AF2B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91A-7A91-47E8-A534-B6130792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6754-2B36-4DA3-A9A1-BBFF7F62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B869-342D-41A8-95FE-E556F245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CA2F-0DF7-4FB5-B18D-D1A7E99F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A4C1-7077-49E8-8AE7-1996C419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B140-BD2F-4895-827E-B460F7978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3. Динамические модели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-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хем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математической моделью в виде решения дифференциального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2629080" y="3297240"/>
                <a:ext cx="3743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графической моделью, состоящей из двух графиков: графика изменения возмущения во времени и графика реакции объекта на это возмущение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. 3.1. Временные зависимости  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ходной и выходной сигн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[ Рис. 4.2. Временные зависимости — входной и выходной сигналы ]"/>
          <p:cNvPicPr/>
          <p:nvPr/>
        </p:nvPicPr>
        <p:blipFill>
          <a:blip r:embed="rId1"/>
          <a:stretch/>
        </p:blipFill>
        <p:spPr>
          <a:xfrm>
            <a:off x="2843280" y="2133720"/>
            <a:ext cx="410508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.1.1. Передаточные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им уравнение движения (3.2), устанавливающее связь между входной и выходной величинами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992160" y="3573360"/>
                <a:ext cx="7396200" cy="20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им преобразование Лапласа к дифференциальному уравнению, считая, что до приложения внешнего воздействия система находилась в покое и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все начальные условия равны ну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комплексный парамет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2124000" y="2924280"/>
                <a:ext cx="496908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971640" y="4941720"/>
                <a:ext cx="1873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j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8"/>
              <p:cNvSpPr txBox="1"/>
              <p:nvPr/>
            </p:nvSpPr>
            <p:spPr>
              <a:xfrm>
                <a:off x="7308720" y="4869000"/>
                <a:ext cx="149544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ю            называют оригиналом,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ю            - изображением и крат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ывают                           что чит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         преобразуется в              »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стр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всегда направлена к оригиналу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2584440" y="1230480"/>
                <a:ext cx="7920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2268360" y="1762200"/>
                <a:ext cx="86364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2700360" y="2247840"/>
                <a:ext cx="23731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1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0"/>
              <p:cNvSpPr txBox="1"/>
              <p:nvPr/>
            </p:nvSpPr>
            <p:spPr>
              <a:xfrm>
                <a:off x="826920" y="2747880"/>
                <a:ext cx="7923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12"/>
              <p:cNvSpPr txBox="1"/>
              <p:nvPr/>
            </p:nvSpPr>
            <p:spPr>
              <a:xfrm>
                <a:off x="4859280" y="2779560"/>
                <a:ext cx="936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оизводных имеют место соот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е. операция дифференцирования оригинала соответствует умножению изображения на числ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степени, соответствующий порядку производ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4"/>
              <p:cNvSpPr txBox="1"/>
              <p:nvPr/>
            </p:nvSpPr>
            <p:spPr>
              <a:xfrm>
                <a:off x="-252360" y="1700280"/>
                <a:ext cx="8928000" cy="24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Y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зображение</m:t>
                        </m:r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ригинал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яя к обеим частям уравнения (3.3) преобразование Лапласа перейдем к операторному уравн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4"/>
              <p:cNvSpPr txBox="1"/>
              <p:nvPr/>
            </p:nvSpPr>
            <p:spPr>
              <a:xfrm>
                <a:off x="755640" y="2205000"/>
                <a:ext cx="7993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Y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1258920" y="4481640"/>
                <a:ext cx="679464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p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42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м обозна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ифференциальный оператор при выходной величине, называется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бственным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, или х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арактеристически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ператор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обусловлено тем, что многочлен характеризует собственное движение элемента, т.е. движение при отсутствии внешних воз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154160" y="1413000"/>
                <a:ext cx="65865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фференциальный оператор при входной величине, называемый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оператором воздейств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Передаточной функцией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W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зывают отношение изображений выходной величины к изображению входной величины при нулевых начальных услов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1042920" y="692280"/>
                <a:ext cx="72010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точная функция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W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зывается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правиль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если степень ее числителя не больше, чем степень знаменателя;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трого правиль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если степень числителя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ньш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епени знаменателя;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неправиль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если степень числителя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ольш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чем степень знамен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684360" y="836640"/>
                <a:ext cx="77929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p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42472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ческие модели отраж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онирование системы в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личают три характеристики режим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торых может находиться динам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авновесный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ереход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ериодиче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точная функция является функцией комплексной переменной , которая может при некоторых значениях переменной </a:t>
            </a:r>
            <a:r>
              <a:rPr b="0" i="1" lang="ru-RU" sz="36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бращаться в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но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бесконеч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Значение переменной </a:t>
            </a:r>
            <a:r>
              <a:rPr b="0" i="1" lang="ru-RU" sz="36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 котором передаточная функция обращается в ноль, называют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нул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значение, при котором обращается в бесконечность –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полюсом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ередаточно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выражения (3.4) след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т.е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при нулевых начальных условиях изображение выхода линейной системы вычисляется как произведение его передаточной функции на изображение входного сигнала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1908000" y="1665360"/>
                <a:ext cx="50403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имер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йти передаточную функции системы по известному дифференциальному уравнению. Начальные условия – нулев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971640" y="3363840"/>
                <a:ext cx="717372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4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0,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ешен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апишем уравнение в операторной форме, используя преобразование Лапл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передаточная функция будет иметь 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068480" y="2425680"/>
                <a:ext cx="65278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4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0,2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6"/>
              <p:cNvSpPr txBox="1"/>
              <p:nvPr/>
            </p:nvSpPr>
            <p:spPr>
              <a:xfrm>
                <a:off x="1709640" y="4581360"/>
                <a:ext cx="594036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,5</m:t>
                        </m:r>
                      </m:num>
                      <m:den>
                        <m:r>
                          <m:t xml:space="preserve">0,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,2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3.1.2.Частотные характерис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астотные характеристики описыв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едаточные свойства системы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ежиме установившихся гармон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олебаний, вызванных внешн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гармоническим воздейств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на вход системы в момен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ени             подано гармоничес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ействие определенной частоты       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плитуды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2484360" y="3860640"/>
                <a:ext cx="86364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7596360" y="4508640"/>
                <a:ext cx="5047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"/>
              <p:cNvSpPr txBox="1"/>
              <p:nvPr/>
            </p:nvSpPr>
            <p:spPr>
              <a:xfrm>
                <a:off x="468360" y="4797360"/>
                <a:ext cx="720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2"/>
              <p:cNvSpPr txBox="1"/>
              <p:nvPr/>
            </p:nvSpPr>
            <p:spPr>
              <a:xfrm>
                <a:off x="2394000" y="5589720"/>
                <a:ext cx="39783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з некоторое время, необходи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ротекания переходного процесс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истема войдет в режим установивших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ынужденных колеб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выход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а             будет изменяться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рмоническому закону с той же част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с отличающейся амплитудо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со сдвигом          по оси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2633760" y="2738520"/>
                <a:ext cx="1008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Rectangle 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6"/>
              <p:cNvSpPr txBox="1"/>
              <p:nvPr/>
            </p:nvSpPr>
            <p:spPr>
              <a:xfrm>
                <a:off x="585720" y="4033800"/>
                <a:ext cx="673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8"/>
              <p:cNvSpPr txBox="1"/>
              <p:nvPr/>
            </p:nvSpPr>
            <p:spPr>
              <a:xfrm>
                <a:off x="7596360" y="3876840"/>
                <a:ext cx="631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" name="Rectangle 1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0"/>
              <p:cNvSpPr txBox="1"/>
              <p:nvPr/>
            </p:nvSpPr>
            <p:spPr>
              <a:xfrm>
                <a:off x="3276720" y="4575240"/>
                <a:ext cx="576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Rectangle 1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2"/>
              <p:cNvSpPr txBox="1"/>
              <p:nvPr/>
            </p:nvSpPr>
            <p:spPr>
              <a:xfrm>
                <a:off x="2556000" y="5397480"/>
                <a:ext cx="4591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период колеб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фазовый сдвиг меж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ходным и выход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1619280" y="1916280"/>
                <a:ext cx="13683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515880" y="3328920"/>
                <a:ext cx="27846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t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Δt</m:t>
                    </m:r>
                    <m:r>
                      <m:t xml:space="preserve">×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131920" y="404640"/>
            <a:ext cx="5176800" cy="5329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3851280" y="5661000"/>
            <a:ext cx="172872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496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яя такой эксперимент п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ксированном значении         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личных значений частоты (от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∞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установить, что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мплиту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азовый сдви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выходного сигн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кретной системы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висят от част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здей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авая гармоническое воздействие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ход различных систем, можно убе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величины          и          зависят также 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а и параметров сист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5724360" y="720720"/>
                <a:ext cx="662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7308720" y="1787400"/>
                <a:ext cx="631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3564000" y="2492280"/>
                <a:ext cx="507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3419640" y="5013360"/>
                <a:ext cx="630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Rectangle 1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2"/>
              <p:cNvSpPr txBox="1"/>
              <p:nvPr/>
            </p:nvSpPr>
            <p:spPr>
              <a:xfrm>
                <a:off x="4859280" y="5157720"/>
                <a:ext cx="507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авновесный режи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такое состояние  системы, в котором она может находиться сколь угодно долго в отсутствии внешних возмущающих воздействий или при постоянном воздейств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как амплитуда выходного сигн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исит еще от амплитуды вход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а, то целесообразно при описа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точных свойств сист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ть отношение амплиту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3844800" y="3645000"/>
                <a:ext cx="115884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исимость отношения амплиту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ходного и входного сигнала от част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ют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мплитудной частот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характеристикой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окращено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Ч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ают          (см. рис.3.3,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исимость фазового сдвига меж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ходным и выходным сигналами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оты называют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фазовой частот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характеристикой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окращено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ФЧ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ают           (см. рис.3.3,б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2916360" y="2565360"/>
                <a:ext cx="934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6"/>
              <p:cNvSpPr txBox="1"/>
              <p:nvPr/>
            </p:nvSpPr>
            <p:spPr>
              <a:xfrm>
                <a:off x="2987640" y="5776920"/>
                <a:ext cx="936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тические выражения             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ют соответственно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мплиту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фазовой частотными функция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6012000" y="1557360"/>
                <a:ext cx="11509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250920" y="2133720"/>
                <a:ext cx="115236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2411280" y="201600"/>
            <a:ext cx="3257640" cy="6265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6588000" y="3284640"/>
            <a:ext cx="18716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ЧХ показывает, как систе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ускает сигналы различной част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ка пропускания производится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шению амплитуд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ЧХ показывает, какое отста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опережение выходного сигнала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зе создает система при различ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отах в установившемся реж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4932360" y="2459160"/>
                <a:ext cx="8809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496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плитудную и фазовую частот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истики можно объединить в од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ую – амплитудно-фазовую частот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истику (АФЧ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мплитудно-фазовая частот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характеристик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W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jω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ой функцию комплексного перемен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jω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модуль которого равен              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гу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5832360" y="5157720"/>
                <a:ext cx="11876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6"/>
              <p:cNvSpPr txBox="1"/>
              <p:nvPr/>
            </p:nvSpPr>
            <p:spPr>
              <a:xfrm>
                <a:off x="2362320" y="5767560"/>
                <a:ext cx="11300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му фиксированному знач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оты          соответствует комплекс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               которое на комплекс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и можно изобразить вектор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ющим длину               и угол повор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м. рис.3.4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2411280" y="1744560"/>
                <a:ext cx="6001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6"/>
              <p:cNvSpPr txBox="1"/>
              <p:nvPr/>
            </p:nvSpPr>
            <p:spPr>
              <a:xfrm>
                <a:off x="1908000" y="2468520"/>
                <a:ext cx="13068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8"/>
              <p:cNvSpPr txBox="1"/>
              <p:nvPr/>
            </p:nvSpPr>
            <p:spPr>
              <a:xfrm>
                <a:off x="4067280" y="3548160"/>
                <a:ext cx="1008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0"/>
              <p:cNvSpPr txBox="1"/>
              <p:nvPr/>
            </p:nvSpPr>
            <p:spPr>
              <a:xfrm>
                <a:off x="620640" y="4124160"/>
                <a:ext cx="1152720" cy="6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201080" cy="4508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3562200" y="5516640"/>
            <a:ext cx="187344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42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плитудная частотная характе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коэффициент уси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рмонического сигнала. Если на какой-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оте           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ходной сигнал  усиливается, е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вход данной част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лабл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6"/>
              <p:cNvSpPr txBox="1"/>
              <p:nvPr/>
            </p:nvSpPr>
            <p:spPr>
              <a:xfrm>
                <a:off x="684360" y="1773360"/>
                <a:ext cx="1008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8"/>
              <p:cNvSpPr txBox="1"/>
              <p:nvPr/>
            </p:nvSpPr>
            <p:spPr>
              <a:xfrm>
                <a:off x="2268360" y="2924280"/>
                <a:ext cx="576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Rectangle 1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0"/>
              <p:cNvSpPr txBox="1"/>
              <p:nvPr/>
            </p:nvSpPr>
            <p:spPr>
              <a:xfrm>
                <a:off x="5219640" y="2852640"/>
                <a:ext cx="18082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2"/>
              <p:cNvSpPr txBox="1"/>
              <p:nvPr/>
            </p:nvSpPr>
            <p:spPr>
              <a:xfrm>
                <a:off x="539640" y="4076640"/>
                <a:ext cx="1650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ицательные зна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ветствующие отставанию выход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а от входного, принято отсчит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часовой стрелке от положитель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ия действительной о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5867280" y="1628640"/>
                <a:ext cx="1152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ереходным режим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нимается процесс движения динамической системы из некоторого начального состояния к какому-либо ее установившемуся режиму – равновесному или периодическ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ериодическим режим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зывается такой режим, при котором система через равные промежутки времени приходит в одно и то же состоя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3516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изменении частоты от нуля д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конечности ве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орачивается вокруг начала координ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этом одновременно увеличив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уменьшается длина вектора. Крив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ую при этом опишет конец векто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емая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годографом Найквис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АФЧХ (см. рис. 3.4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й точке характерис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ветствует определенное зна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932360" y="1011240"/>
                <a:ext cx="14400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ции вектор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ействительную и мнимую ос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ют соответствен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действительной и мнимой частотны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характеристик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обознач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3348000" y="1413000"/>
                <a:ext cx="1513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6"/>
              <p:cNvSpPr txBox="1"/>
              <p:nvPr/>
            </p:nvSpPr>
            <p:spPr>
              <a:xfrm>
                <a:off x="934920" y="5084640"/>
                <a:ext cx="73868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тическое выражение для АФЧ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получить из передаточ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и путем подстанов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6051600" y="2397240"/>
                <a:ext cx="15890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Rectangle 7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6"/>
              <p:cNvSpPr txBox="1"/>
              <p:nvPr/>
            </p:nvSpPr>
            <p:spPr>
              <a:xfrm>
                <a:off x="2641680" y="3487680"/>
                <a:ext cx="44514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42472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ФЧХ                 как и любая комплекс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а, может быть представле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 показательной форм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одуль АФЧ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модуль сдвига по фаз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2340000" y="874800"/>
                <a:ext cx="15526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2400480" y="3213000"/>
                <a:ext cx="4346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ϕ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8"/>
              <p:cNvSpPr txBox="1"/>
              <p:nvPr/>
            </p:nvSpPr>
            <p:spPr>
              <a:xfrm>
                <a:off x="1116000" y="4437000"/>
                <a:ext cx="936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0"/>
              <p:cNvSpPr txBox="1"/>
              <p:nvPr/>
            </p:nvSpPr>
            <p:spPr>
              <a:xfrm>
                <a:off x="1066680" y="4984920"/>
                <a:ext cx="9795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лгебраической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 тригонометрическ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1803240" y="1863720"/>
                <a:ext cx="53611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Q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Rectangle 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6"/>
              <p:cNvSpPr txBox="1"/>
              <p:nvPr/>
            </p:nvSpPr>
            <p:spPr>
              <a:xfrm>
                <a:off x="768240" y="3716280"/>
                <a:ext cx="78361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язь между различными частот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ми следующ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1042920" y="2612880"/>
                <a:ext cx="7201080" cy="24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;</m:t>
                        </m:r>
                      </m:e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о                  представляет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об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2316240" y="1187280"/>
                <a:ext cx="143964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1054080" y="2637000"/>
                <a:ext cx="718020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84963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 используя известные в теор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ных чисел соотношения, получ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395280" y="2565360"/>
                <a:ext cx="835344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867564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Определить сигнал           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ходе системы по извест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ходному сигналу и передато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6272280" y="784080"/>
                <a:ext cx="86364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Rectangle 7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6"/>
              <p:cNvSpPr txBox="1"/>
              <p:nvPr/>
            </p:nvSpPr>
            <p:spPr>
              <a:xfrm>
                <a:off x="3492360" y="3576600"/>
                <a:ext cx="309564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0,1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еш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Известно, что при воздейств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ходного сигнала  на систе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ходной сигнал             по истеч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ени переходного процесса такж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ет гармоническим, но отличаться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ходного сигнала амплитудой и фаз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2484360" y="2060640"/>
                <a:ext cx="3456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t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6"/>
              <p:cNvSpPr txBox="1"/>
              <p:nvPr/>
            </p:nvSpPr>
            <p:spPr>
              <a:xfrm>
                <a:off x="4067280" y="2924280"/>
                <a:ext cx="8650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8"/>
              <p:cNvSpPr txBox="1"/>
              <p:nvPr/>
            </p:nvSpPr>
            <p:spPr>
              <a:xfrm>
                <a:off x="760320" y="5445000"/>
                <a:ext cx="79884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3.1. Динамические характеристики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азных объектов и систем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разработа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большое количество динамических модел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ывающих процессы с различной степен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альностью: от самого общего поня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ки, движения вообще, до форма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ческих моделей конкретных проце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равнения движения в механике, волно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я в теории поля и т.д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АЧХ сист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ФЧХ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овательно, для 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найти            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передаточной  функции наход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4"/>
              <p:cNvSpPr txBox="1"/>
              <p:nvPr/>
            </p:nvSpPr>
            <p:spPr>
              <a:xfrm>
                <a:off x="1835280" y="1700280"/>
                <a:ext cx="10792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6"/>
              <p:cNvSpPr txBox="1"/>
              <p:nvPr/>
            </p:nvSpPr>
            <p:spPr>
              <a:xfrm>
                <a:off x="1941480" y="2881440"/>
                <a:ext cx="10796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7596360" y="4076640"/>
                <a:ext cx="7920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Rectangle 1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10"/>
              <p:cNvSpPr txBox="1"/>
              <p:nvPr/>
            </p:nvSpPr>
            <p:spPr>
              <a:xfrm>
                <a:off x="4284720" y="4724280"/>
                <a:ext cx="934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2"/>
              <p:cNvSpPr txBox="1"/>
              <p:nvPr/>
            </p:nvSpPr>
            <p:spPr>
              <a:xfrm>
                <a:off x="5886360" y="4653000"/>
                <a:ext cx="11178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684360" y="399960"/>
                <a:ext cx="7632720" cy="555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0,1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,1</m:t>
                                </m:r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>
                              <m:t xml:space="preserve">0,1</m:t>
                            </m:r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0,1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crtg</m:t>
                        </m:r>
                        <m:r>
                          <m:t xml:space="preserve">0,1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частот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2087640" y="1484280"/>
                <a:ext cx="4965480" cy="24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6"/>
              <p:cNvSpPr txBox="1"/>
              <p:nvPr/>
            </p:nvSpPr>
            <p:spPr>
              <a:xfrm>
                <a:off x="2430360" y="4724280"/>
                <a:ext cx="421164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8"/>
              <p:cNvSpPr txBox="1"/>
              <p:nvPr/>
            </p:nvSpPr>
            <p:spPr>
              <a:xfrm>
                <a:off x="2916360" y="692280"/>
                <a:ext cx="12254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форме АЧХ различают неск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ов звень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фильтр низких частот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ускает низкочастотные сигналы примерно с одинаковым коэффициентом усиления, блокирует высокочастотные шумы и помех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3122640" y="3860640"/>
            <a:ext cx="296208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фильтр высоких част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ропускает высокочастотные сигналы, блокирует сигналы низкой част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2556000" y="2492280"/>
            <a:ext cx="360036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полосовой фильт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ропускает только сигналы в полосе от        до      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4"/>
              <p:cNvSpPr txBox="1"/>
              <p:nvPr/>
            </p:nvSpPr>
            <p:spPr>
              <a:xfrm>
                <a:off x="4897440" y="1192320"/>
                <a:ext cx="595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6" name="Rectangle 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6"/>
              <p:cNvSpPr txBox="1"/>
              <p:nvPr/>
            </p:nvSpPr>
            <p:spPr>
              <a:xfrm>
                <a:off x="6372360" y="1239840"/>
                <a:ext cx="563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78" name="Picture 8" descr=""/>
          <p:cNvPicPr/>
          <p:nvPr/>
        </p:nvPicPr>
        <p:blipFill>
          <a:blip r:embed="rId1"/>
          <a:stretch/>
        </p:blipFill>
        <p:spPr>
          <a:xfrm>
            <a:off x="2700360" y="2576520"/>
            <a:ext cx="364176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полосовой режекторный фильт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блокирует только сигналы с частотами от          до        , остальные пропуск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3132000" y="1700280"/>
                <a:ext cx="501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2" name="Rectangle 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6"/>
              <p:cNvSpPr txBox="1"/>
              <p:nvPr/>
            </p:nvSpPr>
            <p:spPr>
              <a:xfrm>
                <a:off x="1595520" y="1623960"/>
                <a:ext cx="525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84" name="Picture 8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8894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 динамических систем определяют динамические характер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Динамические характеристи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–  это реакция системы на возмущение (зависимость изменения выходных переменных от входных и от времен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ческая характеристика может быть представле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математической моделью в виде дифференциального уравнения (или уравнений)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2052720" y="3792600"/>
                <a:ext cx="568800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4"/>
              <p:cNvSpPr txBox="1"/>
              <p:nvPr/>
            </p:nvSpPr>
            <p:spPr>
              <a:xfrm>
                <a:off x="971640" y="1989000"/>
                <a:ext cx="7632720" cy="20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ходная и выходная велич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ы соответствен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эффициенты уравн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емые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параметр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900000" y="1916280"/>
                <a:ext cx="15829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1187280" y="3551400"/>
                <a:ext cx="10810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06:40:47Z</dcterms:created>
  <dc:creator>Каныгин</dc:creator>
  <dc:description/>
  <dc:language>en-US</dc:language>
  <cp:lastModifiedBy>Каныгин</cp:lastModifiedBy>
  <dcterms:modified xsi:type="dcterms:W3CDTF">2016-02-11T14:37:43Z</dcterms:modified>
  <cp:revision>42</cp:revision>
  <dc:subject/>
  <dc:title>3. Динамические модели</dc:title>
</cp:coreProperties>
</file>